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450360"/>
            <a:ext cx="78026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450360"/>
            <a:ext cx="78026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450360"/>
            <a:ext cx="78026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948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756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7140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948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756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400" y="450360"/>
            <a:ext cx="78026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400" y="450360"/>
            <a:ext cx="78026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450360"/>
            <a:ext cx="78026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450360"/>
            <a:ext cx="78026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71400" y="450360"/>
            <a:ext cx="7802640" cy="64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450360"/>
            <a:ext cx="78026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450360"/>
            <a:ext cx="78026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400" y="450360"/>
            <a:ext cx="78026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524720" y="6129360"/>
            <a:ext cx="150516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1400" y="450360"/>
            <a:ext cx="780264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58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80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Ravensburger Adaptive Computing Environ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weiterung von 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dolf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CS AG R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atik- und Netzwerkverein Ravensburg e.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73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sherige konkrete Anwendungen von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fzeichnungs- und Wiedergabekomponente eines verteilten Führungs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strukturierte Persistenzkomponent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vereinfacht key-value-Beispi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MEA0183-Interpr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ging von XML-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pretation von tcpdumps (in Arbe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73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omponenten von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rorlogging: Stream-basiert, mit minimalen locking durch thread specific  singleton, Backends stderr/sys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-Handling für Transportkompon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-Performance Logging/Logfile-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ichersegmente mit Persistenz-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73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wendungsmöglichkeite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CE-Biblioth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gemeines Protokollhandling in Transportkompon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performance Schreiben und Lesen von Logfiles mit komplexen Snats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strukturierte Datenverwal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924360" y="981000"/>
            <a:ext cx="2639880" cy="1995480"/>
            <a:chOff x="3924360" y="981000"/>
            <a:chExt cx="2639880" cy="1995480"/>
          </a:xfrm>
        </p:grpSpPr>
        <p:grpSp>
          <p:nvGrpSpPr>
            <p:cNvPr id="49" name=""/>
            <p:cNvGrpSpPr/>
            <p:nvPr/>
          </p:nvGrpSpPr>
          <p:grpSpPr>
            <a:xfrm>
              <a:off x="4356000" y="981000"/>
              <a:ext cx="2208240" cy="1995480"/>
              <a:chOff x="4356000" y="981000"/>
              <a:chExt cx="2208240" cy="1995480"/>
            </a:xfrm>
          </p:grpSpPr>
          <p:sp>
            <p:nvSpPr>
              <p:cNvPr id="50" name=""/>
              <p:cNvSpPr/>
              <p:nvPr/>
            </p:nvSpPr>
            <p:spPr>
              <a:xfrm>
                <a:off x="4356000" y="981000"/>
                <a:ext cx="2208240" cy="1995480"/>
              </a:xfrm>
              <a:prstGeom prst="roundRect">
                <a:avLst>
                  <a:gd name="adj" fmla="val 7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45080" y="1123920"/>
                <a:ext cx="170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1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RACE_Log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4500720" y="1622520"/>
                <a:ext cx="1073160" cy="565200"/>
                <a:chOff x="4500720" y="1622520"/>
                <a:chExt cx="1073160" cy="5652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4500720" y="1622520"/>
                  <a:ext cx="1073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500720" y="2185920"/>
                  <a:ext cx="107316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" name=""/>
                <p:cNvGrpSpPr/>
                <p:nvPr/>
              </p:nvGrpSpPr>
              <p:grpSpPr>
                <a:xfrm>
                  <a:off x="4714920" y="1622520"/>
                  <a:ext cx="853920" cy="558720"/>
                  <a:chOff x="4714920" y="1622520"/>
                  <a:chExt cx="853920" cy="55872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714920" y="1622520"/>
                    <a:ext cx="1440" cy="55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29120" y="1622520"/>
                    <a:ext cx="1800" cy="55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5140440" y="1622520"/>
                    <a:ext cx="1440" cy="55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5353200" y="1622520"/>
                    <a:ext cx="1440" cy="55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5567400" y="1622520"/>
                    <a:ext cx="1440" cy="55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5651640" y="1622520"/>
                <a:ext cx="333360" cy="352440"/>
                <a:chOff x="5651640" y="1622520"/>
                <a:chExt cx="333360" cy="3524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651640" y="1622520"/>
                  <a:ext cx="333360" cy="352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765760" y="1622520"/>
                  <a:ext cx="117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4643280" y="2408400"/>
                <a:ext cx="1611360" cy="358560"/>
              </a:xfrm>
              <a:prstGeom prst="roundRect">
                <a:avLst>
                  <a:gd name="adj" fmla="val 44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643280" y="2435400"/>
                <a:ext cx="1635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RACE_Accumul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578560" y="1836720"/>
                <a:ext cx="35856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924360" y="1914480"/>
              <a:ext cx="57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-498960"/>
            <a:ext cx="822960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RACE-Logger und Logfileles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35640" y="1628640"/>
            <a:ext cx="1218600" cy="622440"/>
            <a:chOff x="2735640" y="1628640"/>
            <a:chExt cx="1218600" cy="622440"/>
          </a:xfrm>
        </p:grpSpPr>
        <p:sp>
          <p:nvSpPr>
            <p:cNvPr id="70" name=""/>
            <p:cNvSpPr/>
            <p:nvPr/>
          </p:nvSpPr>
          <p:spPr>
            <a:xfrm>
              <a:off x="2771640" y="1628640"/>
              <a:ext cx="1148040" cy="622440"/>
            </a:xfrm>
            <a:prstGeom prst="roundRect">
              <a:avLst>
                <a:gd name="adj" fmla="val 255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735640" y="1628640"/>
              <a:ext cx="1218600" cy="621000"/>
              <a:chOff x="2735640" y="1628640"/>
              <a:chExt cx="1218600" cy="621000"/>
            </a:xfrm>
          </p:grpSpPr>
          <p:sp>
            <p:nvSpPr>
              <p:cNvPr id="72" name=""/>
              <p:cNvSpPr/>
              <p:nvPr/>
            </p:nvSpPr>
            <p:spPr>
              <a:xfrm>
                <a:off x="2771640" y="1628640"/>
                <a:ext cx="1146240" cy="621000"/>
              </a:xfrm>
              <a:prstGeom prst="roundRect">
                <a:avLst>
                  <a:gd name="adj" fmla="val 25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2735640" y="1628640"/>
                <a:ext cx="1218600" cy="621000"/>
                <a:chOff x="2735640" y="1628640"/>
                <a:chExt cx="1218600" cy="6210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771640" y="1628640"/>
                  <a:ext cx="1146240" cy="621000"/>
                </a:xfrm>
                <a:prstGeom prst="roundRect">
                  <a:avLst>
                    <a:gd name="adj" fmla="val 25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735640" y="1755000"/>
                  <a:ext cx="1218600" cy="368280"/>
                </a:xfrm>
                <a:prstGeom prst="roundRect">
                  <a:avLst>
                    <a:gd name="adj" fmla="val 25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Dump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" name=""/>
          <p:cNvSpPr/>
          <p:nvPr/>
        </p:nvSpPr>
        <p:spPr>
          <a:xfrm>
            <a:off x="6588000" y="501336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948360" y="1989000"/>
            <a:ext cx="1954440" cy="3019680"/>
            <a:chOff x="6948360" y="1989000"/>
            <a:chExt cx="1954440" cy="3019680"/>
          </a:xfrm>
        </p:grpSpPr>
        <p:grpSp>
          <p:nvGrpSpPr>
            <p:cNvPr id="78" name=""/>
            <p:cNvGrpSpPr/>
            <p:nvPr/>
          </p:nvGrpSpPr>
          <p:grpSpPr>
            <a:xfrm>
              <a:off x="6948360" y="1989000"/>
              <a:ext cx="1795680" cy="3019680"/>
              <a:chOff x="6948360" y="1989000"/>
              <a:chExt cx="1795680" cy="3019680"/>
            </a:xfrm>
          </p:grpSpPr>
          <p:sp>
            <p:nvSpPr>
              <p:cNvPr id="79" name=""/>
              <p:cNvSpPr/>
              <p:nvPr/>
            </p:nvSpPr>
            <p:spPr>
              <a:xfrm>
                <a:off x="6948360" y="1989000"/>
                <a:ext cx="1795680" cy="3019680"/>
              </a:xfrm>
              <a:custGeom>
                <a:avLst/>
                <a:gdLst/>
                <a:ahLst/>
                <a:rect l="l" t="t" r="r" b="b"/>
                <a:pathLst>
                  <a:path w="4989" h="8389">
                    <a:moveTo>
                      <a:pt x="2494" y="0"/>
                    </a:moveTo>
                    <a:cubicBezTo>
                      <a:pt x="1133" y="0"/>
                      <a:pt x="0" y="477"/>
                      <a:pt x="0" y="1049"/>
                    </a:cubicBezTo>
                    <a:lnTo>
                      <a:pt x="0" y="7340"/>
                    </a:lnTo>
                    <a:cubicBezTo>
                      <a:pt x="0" y="7910"/>
                      <a:pt x="1133" y="8388"/>
                      <a:pt x="2494" y="8388"/>
                    </a:cubicBezTo>
                    <a:cubicBezTo>
                      <a:pt x="3855" y="8388"/>
                      <a:pt x="4988" y="7910"/>
                      <a:pt x="4988" y="7340"/>
                    </a:cubicBezTo>
                    <a:lnTo>
                      <a:pt x="4988" y="1049"/>
                    </a:lnTo>
                    <a:cubicBezTo>
                      <a:pt x="4988" y="477"/>
                      <a:pt x="3855" y="0"/>
                      <a:pt x="2494" y="0"/>
                    </a:cubicBezTo>
                    <a:lnTo>
                      <a:pt x="2494" y="0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948360" y="1989000"/>
                <a:ext cx="1795680" cy="755640"/>
              </a:xfrm>
              <a:custGeom>
                <a:avLst/>
                <a:gdLst/>
                <a:ahLst/>
                <a:rect l="l" t="t" r="r" b="b"/>
                <a:pathLst>
                  <a:path w="4989" h="2098">
                    <a:moveTo>
                      <a:pt x="2494" y="0"/>
                    </a:moveTo>
                    <a:cubicBezTo>
                      <a:pt x="1133" y="0"/>
                      <a:pt x="0" y="476"/>
                      <a:pt x="0" y="1048"/>
                    </a:cubicBezTo>
                    <a:cubicBezTo>
                      <a:pt x="0" y="1620"/>
                      <a:pt x="1133" y="2097"/>
                      <a:pt x="2494" y="2097"/>
                    </a:cubicBezTo>
                    <a:cubicBezTo>
                      <a:pt x="3855" y="2097"/>
                      <a:pt x="4988" y="1620"/>
                      <a:pt x="4988" y="1048"/>
                    </a:cubicBezTo>
                    <a:cubicBezTo>
                      <a:pt x="4988" y="476"/>
                      <a:pt x="3855" y="0"/>
                      <a:pt x="2494" y="0"/>
                    </a:cubicBezTo>
                    <a:lnTo>
                      <a:pt x="2494" y="0"/>
                    </a:lnTo>
                  </a:path>
                </a:pathLst>
              </a:custGeom>
              <a:solidFill>
                <a:srgbClr val="ccf5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966000" y="2276640"/>
              <a:ext cx="1936800" cy="2658960"/>
              <a:chOff x="6966000" y="2276640"/>
              <a:chExt cx="1936800" cy="265896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6966000" y="2922480"/>
                <a:ext cx="1936800" cy="2013120"/>
                <a:chOff x="6966000" y="2922480"/>
                <a:chExt cx="1936800" cy="20131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7523280" y="2924280"/>
                  <a:ext cx="715680" cy="2011320"/>
                  <a:chOff x="7523280" y="2924280"/>
                  <a:chExt cx="715680" cy="20113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7523280" y="2924280"/>
                    <a:ext cx="715680" cy="358560"/>
                  </a:xfrm>
                  <a:prstGeom prst="roundRect">
                    <a:avLst>
                      <a:gd name="adj" fmla="val 44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3280" y="3282840"/>
                    <a:ext cx="715680" cy="360360"/>
                  </a:xfrm>
                  <a:prstGeom prst="roundRect">
                    <a:avLst>
                      <a:gd name="adj" fmla="val 44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" name=""/>
                  <p:cNvGrpSpPr/>
                  <p:nvPr/>
                </p:nvGrpSpPr>
                <p:grpSpPr>
                  <a:xfrm>
                    <a:off x="7523280" y="4363920"/>
                    <a:ext cx="711000" cy="571680"/>
                    <a:chOff x="7523280" y="4363920"/>
                    <a:chExt cx="711000" cy="57168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7523280" y="4363920"/>
                      <a:ext cx="711000" cy="571680"/>
                    </a:xfrm>
                    <a:prstGeom prst="roundRect">
                      <a:avLst>
                        <a:gd name="adj" fmla="val 278"/>
                      </a:avLst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7523280" y="4649760"/>
                      <a:ext cx="71100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7523280" y="4508640"/>
                      <a:ext cx="71100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7523280" y="4791240"/>
                      <a:ext cx="71100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7807320" y="4363920"/>
                      <a:ext cx="1440" cy="571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2" name=""/>
                  <p:cNvSpPr/>
                  <p:nvPr/>
                </p:nvSpPr>
                <p:spPr>
                  <a:xfrm>
                    <a:off x="7523280" y="3643200"/>
                    <a:ext cx="715680" cy="289080"/>
                  </a:xfrm>
                  <a:prstGeom prst="roundRect">
                    <a:avLst>
                      <a:gd name="adj" fmla="val 546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523280" y="3932280"/>
                    <a:ext cx="715680" cy="431640"/>
                  </a:xfrm>
                  <a:prstGeom prst="roundRect">
                    <a:avLst>
                      <a:gd name="adj" fmla="val 366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6966000" y="2922480"/>
                  <a:ext cx="1697040" cy="1508400"/>
                  <a:chOff x="6966000" y="2922480"/>
                  <a:chExt cx="1697040" cy="15084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6966000" y="2928960"/>
                    <a:ext cx="1697040" cy="150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12" h="4171">
                        <a:moveTo>
                          <a:pt x="3158" y="4170"/>
                        </a:moveTo>
                        <a:cubicBezTo>
                          <a:pt x="3363" y="3994"/>
                          <a:pt x="4218" y="3491"/>
                          <a:pt x="4367" y="3127"/>
                        </a:cubicBezTo>
                        <a:cubicBezTo>
                          <a:pt x="4516" y="2763"/>
                          <a:pt x="4711" y="2372"/>
                          <a:pt x="4059" y="1984"/>
                        </a:cubicBezTo>
                        <a:cubicBezTo>
                          <a:pt x="3408" y="1595"/>
                          <a:pt x="903" y="1122"/>
                          <a:pt x="451" y="792"/>
                        </a:cubicBezTo>
                        <a:cubicBezTo>
                          <a:pt x="0" y="464"/>
                          <a:pt x="1201" y="132"/>
                          <a:pt x="135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V="1">
                    <a:off x="7288200" y="2922480"/>
                    <a:ext cx="163440" cy="8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7026120" y="3281400"/>
                  <a:ext cx="1876680" cy="1293840"/>
                  <a:chOff x="7026120" y="3281400"/>
                  <a:chExt cx="1876680" cy="129384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7026120" y="3360600"/>
                    <a:ext cx="1876680" cy="121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13" h="3375">
                        <a:moveTo>
                          <a:pt x="2989" y="3374"/>
                        </a:moveTo>
                        <a:cubicBezTo>
                          <a:pt x="4098" y="2807"/>
                          <a:pt x="5212" y="2248"/>
                          <a:pt x="4827" y="1783"/>
                        </a:cubicBezTo>
                        <a:cubicBezTo>
                          <a:pt x="4444" y="1319"/>
                          <a:pt x="1376" y="888"/>
                          <a:pt x="687" y="592"/>
                        </a:cubicBezTo>
                        <a:cubicBezTo>
                          <a:pt x="0" y="296"/>
                          <a:pt x="687" y="98"/>
                          <a:pt x="687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V="1">
                    <a:off x="7273800" y="3281400"/>
                    <a:ext cx="166680" cy="8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0" name=""/>
              <p:cNvSpPr/>
              <p:nvPr/>
            </p:nvSpPr>
            <p:spPr>
              <a:xfrm>
                <a:off x="7451640" y="2276640"/>
                <a:ext cx="85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Logfi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572000" y="3860640"/>
            <a:ext cx="1940040" cy="2298960"/>
            <a:chOff x="4572000" y="3860640"/>
            <a:chExt cx="1940040" cy="2298960"/>
          </a:xfrm>
        </p:grpSpPr>
        <p:sp>
          <p:nvSpPr>
            <p:cNvPr id="102" name=""/>
            <p:cNvSpPr/>
            <p:nvPr/>
          </p:nvSpPr>
          <p:spPr>
            <a:xfrm>
              <a:off x="4572000" y="3860640"/>
              <a:ext cx="1940040" cy="2298960"/>
            </a:xfrm>
            <a:custGeom>
              <a:avLst/>
              <a:gdLst>
                <a:gd name="textAreaLeft" fmla="*/ 360 w 1940040"/>
                <a:gd name="textAreaRight" fmla="*/ 1939680 w 1940040"/>
                <a:gd name="textAreaTop" fmla="*/ 360 h 2298960"/>
                <a:gd name="textAreaBottom" fmla="*/ 2298600 h 2298960"/>
              </a:gdLst>
              <a:ahLst/>
              <a:rect l="textAreaLeft" t="textAreaTop" r="textAreaRight" b="textAreaBottom"/>
              <a:pathLst>
                <a:path w="21600" h="25595">
                  <a:moveTo>
                    <a:pt x="17" y="0"/>
                  </a:moveTo>
                  <a:arcTo wR="17" hR="17" stAng="16200000" swAng="-5400000"/>
                  <a:lnTo>
                    <a:pt x="0" y="25578"/>
                  </a:lnTo>
                  <a:arcTo wR="17" hR="17" stAng="10800000" swAng="-5400000"/>
                  <a:lnTo>
                    <a:pt x="21583" y="25595"/>
                  </a:lnTo>
                  <a:arcTo wR="17" hR="17" stAng="5400000" swAng="-5400000"/>
                  <a:lnTo>
                    <a:pt x="21600" y="17"/>
                  </a:lnTo>
                  <a:arcTo wR="17" hR="17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643280" y="4003560"/>
              <a:ext cx="1760760" cy="1865520"/>
              <a:chOff x="4643280" y="4003560"/>
              <a:chExt cx="1760760" cy="1865520"/>
            </a:xfrm>
          </p:grpSpPr>
          <p:sp>
            <p:nvSpPr>
              <p:cNvPr id="104" name=""/>
              <p:cNvSpPr/>
              <p:nvPr/>
            </p:nvSpPr>
            <p:spPr>
              <a:xfrm>
                <a:off x="4643280" y="4003560"/>
                <a:ext cx="176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RACE_Rea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88000" y="4576680"/>
                <a:ext cx="1434960" cy="1292400"/>
              </a:xfrm>
              <a:prstGeom prst="roundRect">
                <a:avLst>
                  <a:gd name="adj" fmla="val 12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4708800" y="4648320"/>
                <a:ext cx="1464480" cy="280800"/>
                <a:chOff x="4708800" y="4648320"/>
                <a:chExt cx="1464480" cy="280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716360" y="4648320"/>
                  <a:ext cx="1452600" cy="279360"/>
                </a:xfrm>
                <a:prstGeom prst="roundRect">
                  <a:avLst>
                    <a:gd name="adj" fmla="val 56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4708800" y="4649760"/>
                  <a:ext cx="1464480" cy="279360"/>
                  <a:chOff x="4708800" y="4649760"/>
                  <a:chExt cx="1464480" cy="2793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4716360" y="4649760"/>
                    <a:ext cx="1451160" cy="279360"/>
                  </a:xfrm>
                  <a:prstGeom prst="roundRect">
                    <a:avLst>
                      <a:gd name="adj" fmla="val 56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4708800" y="4649760"/>
                    <a:ext cx="1464480" cy="277200"/>
                  </a:xfrm>
                  <a:prstGeom prst="roundRect">
                    <a:avLst>
                      <a:gd name="adj" fmla="val 56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200" spc="-1" strike="noStrike">
                        <a:solidFill>
                          <a:srgbClr val="000000"/>
                        </a:solidFill>
                        <a:latin typeface="Arial"/>
                        <a:ea typeface="HG Mincho Light J"/>
                      </a:rPr>
                      <a:t>RACE_ReadBuffe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11" name=""/>
          <p:cNvGrpSpPr/>
          <p:nvPr/>
        </p:nvGrpSpPr>
        <p:grpSpPr>
          <a:xfrm>
            <a:off x="6224760" y="2708280"/>
            <a:ext cx="982440" cy="691560"/>
            <a:chOff x="6224760" y="2708280"/>
            <a:chExt cx="982440" cy="691560"/>
          </a:xfrm>
        </p:grpSpPr>
        <p:sp>
          <p:nvSpPr>
            <p:cNvPr id="112" name=""/>
            <p:cNvSpPr/>
            <p:nvPr/>
          </p:nvSpPr>
          <p:spPr>
            <a:xfrm>
              <a:off x="6237360" y="2708280"/>
              <a:ext cx="96984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6224760" y="2783520"/>
              <a:ext cx="777960" cy="616320"/>
              <a:chOff x="6224760" y="2783520"/>
              <a:chExt cx="777960" cy="616320"/>
            </a:xfrm>
          </p:grpSpPr>
          <p:sp>
            <p:nvSpPr>
              <p:cNvPr id="114" name=""/>
              <p:cNvSpPr/>
              <p:nvPr/>
            </p:nvSpPr>
            <p:spPr>
              <a:xfrm rot="1920000">
                <a:off x="6233760" y="2965320"/>
                <a:ext cx="758880" cy="252720"/>
              </a:xfrm>
              <a:prstGeom prst="roundRect">
                <a:avLst>
                  <a:gd name="adj" fmla="val 6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6224760" y="2783520"/>
                <a:ext cx="777960" cy="616320"/>
                <a:chOff x="6224760" y="2783520"/>
                <a:chExt cx="777960" cy="616320"/>
              </a:xfrm>
            </p:grpSpPr>
            <p:sp>
              <p:nvSpPr>
                <p:cNvPr id="116" name=""/>
                <p:cNvSpPr/>
                <p:nvPr/>
              </p:nvSpPr>
              <p:spPr>
                <a:xfrm rot="1920000">
                  <a:off x="6233760" y="2965320"/>
                  <a:ext cx="758880" cy="252720"/>
                </a:xfrm>
                <a:prstGeom prst="roundRect">
                  <a:avLst>
                    <a:gd name="adj" fmla="val 63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920000">
                  <a:off x="6237360" y="2965320"/>
                  <a:ext cx="757440" cy="246960"/>
                </a:xfrm>
                <a:prstGeom prst="roundRect">
                  <a:avLst>
                    <a:gd name="adj" fmla="val 63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4K-Blöck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1438560" y="4724280"/>
            <a:ext cx="3130200" cy="1148040"/>
            <a:chOff x="1438560" y="4724280"/>
            <a:chExt cx="3130200" cy="1148040"/>
          </a:xfrm>
        </p:grpSpPr>
        <p:sp>
          <p:nvSpPr>
            <p:cNvPr id="119" name=""/>
            <p:cNvSpPr/>
            <p:nvPr/>
          </p:nvSpPr>
          <p:spPr>
            <a:xfrm flipH="1">
              <a:off x="4195800" y="5300640"/>
              <a:ext cx="37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438560" y="4724280"/>
              <a:ext cx="2777760" cy="1148040"/>
              <a:chOff x="1438560" y="4724280"/>
              <a:chExt cx="2777760" cy="11480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1438560" y="5084640"/>
                <a:ext cx="1218600" cy="622440"/>
                <a:chOff x="1438560" y="5084640"/>
                <a:chExt cx="1218600" cy="6224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476360" y="5084640"/>
                  <a:ext cx="1146240" cy="622440"/>
                </a:xfrm>
                <a:prstGeom prst="roundRect">
                  <a:avLst>
                    <a:gd name="adj" fmla="val 255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1438560" y="5084640"/>
                  <a:ext cx="1218600" cy="621000"/>
                  <a:chOff x="1438560" y="5084640"/>
                  <a:chExt cx="1218600" cy="6210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1476360" y="5084640"/>
                    <a:ext cx="1144440" cy="621000"/>
                  </a:xfrm>
                  <a:prstGeom prst="roundRect">
                    <a:avLst>
                      <a:gd name="adj" fmla="val 25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1438560" y="5084640"/>
                    <a:ext cx="1218600" cy="621000"/>
                    <a:chOff x="1438560" y="5084640"/>
                    <a:chExt cx="1218600" cy="62100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476360" y="5084640"/>
                      <a:ext cx="1143000" cy="621000"/>
                    </a:xfrm>
                    <a:prstGeom prst="roundRect">
                      <a:avLst>
                        <a:gd name="adj" fmla="val 255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1438560" y="5211000"/>
                      <a:ext cx="1218600" cy="368280"/>
                    </a:xfrm>
                    <a:prstGeom prst="roundRect">
                      <a:avLst>
                        <a:gd name="adj" fmla="val 255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HG Mincho Light J"/>
                        </a:rPr>
                        <a:t>Dump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8" name=""/>
              <p:cNvGrpSpPr/>
              <p:nvPr/>
            </p:nvGrpSpPr>
            <p:grpSpPr>
              <a:xfrm>
                <a:off x="2980800" y="4724280"/>
                <a:ext cx="1235520" cy="1148040"/>
                <a:chOff x="2980800" y="4724280"/>
                <a:chExt cx="1235520" cy="1148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982960" y="4724280"/>
                  <a:ext cx="1222200" cy="114804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2980800" y="5083200"/>
                  <a:ext cx="1235520" cy="371520"/>
                  <a:chOff x="2980800" y="5083200"/>
                  <a:chExt cx="1235520" cy="37152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2982960" y="5083200"/>
                    <a:ext cx="1233360" cy="365040"/>
                  </a:xfrm>
                  <a:prstGeom prst="roundRect">
                    <a:avLst>
                      <a:gd name="adj" fmla="val 431"/>
                    </a:avLst>
                  </a:prstGeom>
                  <a:solidFill>
                    <a:srgbClr val="00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2980800" y="5083200"/>
                    <a:ext cx="1234440" cy="371520"/>
                    <a:chOff x="2980800" y="5083200"/>
                    <a:chExt cx="1234440" cy="37152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2982960" y="5083200"/>
                      <a:ext cx="1231920" cy="371520"/>
                    </a:xfrm>
                    <a:prstGeom prst="roundRect">
                      <a:avLst>
                        <a:gd name="adj" fmla="val 42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4" name=""/>
                    <p:cNvGrpSpPr/>
                    <p:nvPr/>
                  </p:nvGrpSpPr>
                  <p:grpSpPr>
                    <a:xfrm>
                      <a:off x="2980800" y="5083200"/>
                      <a:ext cx="1234440" cy="369720"/>
                      <a:chOff x="2980800" y="5083200"/>
                      <a:chExt cx="1234440" cy="369720"/>
                    </a:xfrm>
                  </p:grpSpPr>
                  <p:sp>
                    <p:nvSpPr>
                      <p:cNvPr id="135" name=""/>
                      <p:cNvSpPr/>
                      <p:nvPr/>
                    </p:nvSpPr>
                    <p:spPr>
                      <a:xfrm>
                        <a:off x="2982960" y="5083200"/>
                        <a:ext cx="1231920" cy="369720"/>
                      </a:xfrm>
                      <a:prstGeom prst="roundRect">
                        <a:avLst>
                          <a:gd name="adj" fmla="val 431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2980800" y="5083200"/>
                        <a:ext cx="1234440" cy="369000"/>
                      </a:xfrm>
                      <a:prstGeom prst="roundRect">
                        <a:avLst>
                          <a:gd name="adj" fmla="val 431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47840"/>
                            <a:tab algn="l" pos="896760"/>
                            <a:tab algn="l" pos="1346040"/>
                            <a:tab algn="l" pos="1795320"/>
                            <a:tab algn="l" pos="2244600"/>
                            <a:tab algn="l" pos="2693880"/>
                            <a:tab algn="l" pos="3143160"/>
                            <a:tab algn="l" pos="3592440"/>
                            <a:tab algn="l" pos="4041720"/>
                            <a:tab algn="l" pos="4491000"/>
                            <a:tab algn="l" pos="4940280"/>
                            <a:tab algn="l" pos="5389560"/>
                            <a:tab algn="l" pos="5838840"/>
                            <a:tab algn="l" pos="6288120"/>
                            <a:tab algn="l" pos="6737400"/>
                            <a:tab algn="l" pos="7186680"/>
                            <a:tab algn="l" pos="7635960"/>
                            <a:tab algn="l" pos="8085240"/>
                            <a:tab algn="l" pos="8534520"/>
                            <a:tab algn="l" pos="89838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HG Mincho Light J"/>
                          </a:rPr>
                          <a:t>Interpreter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37" name=""/>
              <p:cNvSpPr/>
              <p:nvPr/>
            </p:nvSpPr>
            <p:spPr>
              <a:xfrm flipH="1">
                <a:off x="2615760" y="5373720"/>
                <a:ext cx="3733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250920" y="3357720"/>
            <a:ext cx="909720" cy="714240"/>
            <a:chOff x="250920" y="3357720"/>
            <a:chExt cx="909720" cy="714240"/>
          </a:xfrm>
        </p:grpSpPr>
        <p:sp>
          <p:nvSpPr>
            <p:cNvPr id="139" name=""/>
            <p:cNvSpPr/>
            <p:nvPr/>
          </p:nvSpPr>
          <p:spPr>
            <a:xfrm>
              <a:off x="250920" y="3357720"/>
              <a:ext cx="909720" cy="714240"/>
            </a:xfrm>
            <a:prstGeom prst="roundRect">
              <a:avLst>
                <a:gd name="adj" fmla="val 222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50920" y="3357720"/>
              <a:ext cx="907920" cy="712800"/>
              <a:chOff x="250920" y="3357720"/>
              <a:chExt cx="907920" cy="712800"/>
            </a:xfrm>
          </p:grpSpPr>
          <p:sp>
            <p:nvSpPr>
              <p:cNvPr id="141" name=""/>
              <p:cNvSpPr/>
              <p:nvPr/>
            </p:nvSpPr>
            <p:spPr>
              <a:xfrm>
                <a:off x="250920" y="3357720"/>
                <a:ext cx="907920" cy="712800"/>
              </a:xfrm>
              <a:prstGeom prst="roundRect">
                <a:avLst>
                  <a:gd name="adj" fmla="val 22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50920" y="3357720"/>
                <a:ext cx="907920" cy="712800"/>
                <a:chOff x="250920" y="3357720"/>
                <a:chExt cx="907920" cy="7128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50920" y="3357720"/>
                  <a:ext cx="907920" cy="712800"/>
                </a:xfrm>
                <a:prstGeom prst="roundRect">
                  <a:avLst>
                    <a:gd name="adj" fmla="val 22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17160" y="3529800"/>
                  <a:ext cx="775080" cy="368280"/>
                </a:xfrm>
                <a:prstGeom prst="roundRect">
                  <a:avLst>
                    <a:gd name="adj" fmla="val 22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Clo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5" name=""/>
          <p:cNvGrpSpPr/>
          <p:nvPr/>
        </p:nvGrpSpPr>
        <p:grpSpPr>
          <a:xfrm>
            <a:off x="6256800" y="4492800"/>
            <a:ext cx="793440" cy="507960"/>
            <a:chOff x="6256800" y="4492800"/>
            <a:chExt cx="793440" cy="507960"/>
          </a:xfrm>
        </p:grpSpPr>
        <p:sp>
          <p:nvSpPr>
            <p:cNvPr id="146" name=""/>
            <p:cNvSpPr/>
            <p:nvPr/>
          </p:nvSpPr>
          <p:spPr>
            <a:xfrm flipH="1">
              <a:off x="6284520" y="4492800"/>
              <a:ext cx="755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256800" y="4590000"/>
              <a:ext cx="793440" cy="410760"/>
              <a:chOff x="6256800" y="4590000"/>
              <a:chExt cx="793440" cy="410760"/>
            </a:xfrm>
          </p:grpSpPr>
          <p:sp>
            <p:nvSpPr>
              <p:cNvPr id="148" name=""/>
              <p:cNvSpPr/>
              <p:nvPr/>
            </p:nvSpPr>
            <p:spPr>
              <a:xfrm rot="20820000">
                <a:off x="6291000" y="4669920"/>
                <a:ext cx="723960" cy="247680"/>
              </a:xfrm>
              <a:prstGeom prst="roundRect">
                <a:avLst>
                  <a:gd name="adj" fmla="val 6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6256800" y="4590000"/>
                <a:ext cx="793440" cy="410760"/>
                <a:chOff x="6256800" y="4590000"/>
                <a:chExt cx="793440" cy="410760"/>
              </a:xfrm>
            </p:grpSpPr>
            <p:sp>
              <p:nvSpPr>
                <p:cNvPr id="150" name=""/>
                <p:cNvSpPr/>
                <p:nvPr/>
              </p:nvSpPr>
              <p:spPr>
                <a:xfrm rot="20820000">
                  <a:off x="6291000" y="4669920"/>
                  <a:ext cx="723960" cy="24768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20820000">
                  <a:off x="6274800" y="4671720"/>
                  <a:ext cx="757440" cy="246960"/>
                </a:xfrm>
                <a:prstGeom prst="roundRect">
                  <a:avLst>
                    <a:gd name="adj" fmla="val 64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4K-Blöck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" name=""/>
          <p:cNvGrpSpPr/>
          <p:nvPr/>
        </p:nvGrpSpPr>
        <p:grpSpPr>
          <a:xfrm>
            <a:off x="600120" y="1197000"/>
            <a:ext cx="2166840" cy="2155680"/>
            <a:chOff x="600120" y="1197000"/>
            <a:chExt cx="2166840" cy="2155680"/>
          </a:xfrm>
        </p:grpSpPr>
        <p:sp>
          <p:nvSpPr>
            <p:cNvPr id="153" name=""/>
            <p:cNvSpPr/>
            <p:nvPr/>
          </p:nvSpPr>
          <p:spPr>
            <a:xfrm>
              <a:off x="2263680" y="1914480"/>
              <a:ext cx="503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0120" y="1986120"/>
              <a:ext cx="371520" cy="1366560"/>
            </a:xfrm>
            <a:custGeom>
              <a:avLst/>
              <a:gdLst/>
              <a:ahLst/>
              <a:rect l="l" t="t" r="r" b="b"/>
              <a:pathLst>
                <a:path w="1031" h="3796">
                  <a:moveTo>
                    <a:pt x="29" y="3795"/>
                  </a:moveTo>
                  <a:lnTo>
                    <a:pt x="0" y="4"/>
                  </a:lnTo>
                  <a:lnTo>
                    <a:pt x="10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971640" y="1197000"/>
              <a:ext cx="1436760" cy="1504800"/>
              <a:chOff x="971640" y="1197000"/>
              <a:chExt cx="1436760" cy="1504800"/>
            </a:xfrm>
          </p:grpSpPr>
          <p:sp>
            <p:nvSpPr>
              <p:cNvPr id="156" name=""/>
              <p:cNvSpPr/>
              <p:nvPr/>
            </p:nvSpPr>
            <p:spPr>
              <a:xfrm>
                <a:off x="971640" y="1197000"/>
                <a:ext cx="1436760" cy="1504800"/>
              </a:xfrm>
              <a:custGeom>
                <a:avLst/>
                <a:gdLst>
                  <a:gd name="textAreaLeft" fmla="*/ 360 w 1436760"/>
                  <a:gd name="textAreaRight" fmla="*/ 1436400 w 1436760"/>
                  <a:gd name="textAreaTop" fmla="*/ 360 h 1504800"/>
                  <a:gd name="textAreaBottom" fmla="*/ 1504440 h 1504800"/>
                </a:gdLst>
                <a:ahLst/>
                <a:rect l="textAreaLeft" t="textAreaTop" r="textAreaRight" b="textAreaBottom"/>
                <a:pathLst>
                  <a:path w="21600" h="22623">
                    <a:moveTo>
                      <a:pt x="23" y="0"/>
                    </a:moveTo>
                    <a:arcTo wR="23" hR="23" stAng="16200000" swAng="-5400000"/>
                    <a:lnTo>
                      <a:pt x="0" y="22600"/>
                    </a:lnTo>
                    <a:arcTo wR="23" hR="23" stAng="10800000" swAng="-5400000"/>
                    <a:lnTo>
                      <a:pt x="21577" y="22623"/>
                    </a:lnTo>
                    <a:arcTo wR="23" hR="23" stAng="5400000" swAng="-5400000"/>
                    <a:lnTo>
                      <a:pt x="21600" y="23"/>
                    </a:lnTo>
                    <a:arcTo wR="23" hR="23" stAng="0" swAng="-5400000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85840" y="1268280"/>
                <a:ext cx="10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HG Mincho Light J"/>
                  </a:rPr>
                  <a:t>Collec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1116000" y="1695240"/>
                <a:ext cx="496800" cy="501840"/>
                <a:chOff x="1116000" y="1695240"/>
                <a:chExt cx="496800" cy="50184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1224000" y="1695240"/>
                  <a:ext cx="280800" cy="284040"/>
                  <a:chOff x="1224000" y="1695240"/>
                  <a:chExt cx="280800" cy="2840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V="1">
                    <a:off x="1224000" y="1695240"/>
                    <a:ext cx="141120" cy="28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365120" y="1704960"/>
                    <a:ext cx="139680" cy="27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1116000" y="1981080"/>
                  <a:ext cx="211320" cy="216000"/>
                  <a:chOff x="1116000" y="1981080"/>
                  <a:chExt cx="211320" cy="216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V="1">
                    <a:off x="1116000" y="1981080"/>
                    <a:ext cx="10800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1220760" y="1987560"/>
                    <a:ext cx="106560" cy="20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1401840" y="1971720"/>
                  <a:ext cx="210960" cy="216000"/>
                  <a:chOff x="1401840" y="1971720"/>
                  <a:chExt cx="210960" cy="21600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V="1">
                    <a:off x="1401840" y="1971720"/>
                    <a:ext cx="10476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506600" y="1978200"/>
                    <a:ext cx="106200" cy="20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68" name=""/>
          <p:cNvGrpSpPr/>
          <p:nvPr/>
        </p:nvGrpSpPr>
        <p:grpSpPr>
          <a:xfrm>
            <a:off x="1763640" y="1989000"/>
            <a:ext cx="428760" cy="571680"/>
            <a:chOff x="1763640" y="1989000"/>
            <a:chExt cx="428760" cy="571680"/>
          </a:xfrm>
        </p:grpSpPr>
        <p:sp>
          <p:nvSpPr>
            <p:cNvPr id="169" name=""/>
            <p:cNvSpPr/>
            <p:nvPr/>
          </p:nvSpPr>
          <p:spPr>
            <a:xfrm>
              <a:off x="1763640" y="1989000"/>
              <a:ext cx="180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79640" y="1989000"/>
              <a:ext cx="144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90600" y="1989000"/>
              <a:ext cx="180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63640" y="1989000"/>
              <a:ext cx="428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3640" y="2133720"/>
              <a:ext cx="42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63640" y="2274840"/>
              <a:ext cx="428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63640" y="2558880"/>
              <a:ext cx="428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63640" y="2414520"/>
              <a:ext cx="428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81800" y="4797360"/>
            <a:ext cx="1290960" cy="1219320"/>
            <a:chOff x="181800" y="4797360"/>
            <a:chExt cx="1290960" cy="1219320"/>
          </a:xfrm>
        </p:grpSpPr>
        <p:grpSp>
          <p:nvGrpSpPr>
            <p:cNvPr id="178" name=""/>
            <p:cNvGrpSpPr/>
            <p:nvPr/>
          </p:nvGrpSpPr>
          <p:grpSpPr>
            <a:xfrm>
              <a:off x="181800" y="4797360"/>
              <a:ext cx="1131840" cy="1219320"/>
              <a:chOff x="181800" y="4797360"/>
              <a:chExt cx="1131840" cy="1219320"/>
            </a:xfrm>
          </p:grpSpPr>
          <p:sp>
            <p:nvSpPr>
              <p:cNvPr id="179" name=""/>
              <p:cNvSpPr/>
              <p:nvPr/>
            </p:nvSpPr>
            <p:spPr>
              <a:xfrm>
                <a:off x="250920" y="4797360"/>
                <a:ext cx="998280" cy="1219320"/>
              </a:xfrm>
              <a:custGeom>
                <a:avLst/>
                <a:gdLst>
                  <a:gd name="textAreaLeft" fmla="*/ 360 w 998280"/>
                  <a:gd name="textAreaRight" fmla="*/ 997920 w 998280"/>
                  <a:gd name="textAreaTop" fmla="*/ 360 h 1219320"/>
                  <a:gd name="textAreaBottom" fmla="*/ 1218960 h 1219320"/>
                </a:gdLst>
                <a:ahLst/>
                <a:rect l="textAreaLeft" t="textAreaTop" r="textAreaRight" b="textAreaBottom"/>
                <a:pathLst>
                  <a:path w="21600" h="26381">
                    <a:moveTo>
                      <a:pt x="34" y="0"/>
                    </a:moveTo>
                    <a:arcTo wR="34" hR="34" stAng="16200000" swAng="-5400000"/>
                    <a:lnTo>
                      <a:pt x="0" y="26347"/>
                    </a:lnTo>
                    <a:arcTo wR="34" hR="34" stAng="10800000" swAng="-5400000"/>
                    <a:lnTo>
                      <a:pt x="21566" y="26381"/>
                    </a:lnTo>
                    <a:arcTo wR="34" hR="34" stAng="5400000" swAng="-5400000"/>
                    <a:lnTo>
                      <a:pt x="21600" y="34"/>
                    </a:lnTo>
                    <a:arcTo wR="34" hR="34" stAng="0" swAng="-5400000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1800" y="4797360"/>
                <a:ext cx="1131840" cy="1217520"/>
                <a:chOff x="181800" y="4797360"/>
                <a:chExt cx="1131840" cy="1217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50920" y="4797360"/>
                  <a:ext cx="996840" cy="1217520"/>
                </a:xfrm>
                <a:custGeom>
                  <a:avLst/>
                  <a:gdLst>
                    <a:gd name="textAreaLeft" fmla="*/ 360 w 996840"/>
                    <a:gd name="textAreaRight" fmla="*/ 996480 w 996840"/>
                    <a:gd name="textAreaTop" fmla="*/ 360 h 1217520"/>
                    <a:gd name="textAreaBottom" fmla="*/ 1217160 h 1217520"/>
                  </a:gdLst>
                  <a:ahLst/>
                  <a:rect l="textAreaLeft" t="textAreaTop" r="textAreaRight" b="textAreaBottom"/>
                  <a:pathLst>
                    <a:path w="21600" h="26380">
                      <a:moveTo>
                        <a:pt x="34" y="0"/>
                      </a:moveTo>
                      <a:arcTo wR="34" hR="34" stAng="16200000" swAng="-5400000"/>
                      <a:lnTo>
                        <a:pt x="0" y="26346"/>
                      </a:lnTo>
                      <a:arcTo wR="34" hR="34" stAng="10800000" swAng="-5400000"/>
                      <a:lnTo>
                        <a:pt x="21566" y="26380"/>
                      </a:lnTo>
                      <a:arcTo wR="34" hR="34" stAng="5400000" swAng="-5400000"/>
                      <a:lnTo>
                        <a:pt x="21600" y="34"/>
                      </a:lnTo>
                      <a:arcTo wR="34" hR="34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181800" y="4797360"/>
                  <a:ext cx="1131840" cy="1217520"/>
                  <a:chOff x="181800" y="4797360"/>
                  <a:chExt cx="1131840" cy="12175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250920" y="4797360"/>
                    <a:ext cx="995400" cy="1217520"/>
                  </a:xfrm>
                  <a:custGeom>
                    <a:avLst/>
                    <a:gdLst>
                      <a:gd name="textAreaLeft" fmla="*/ 360 w 995400"/>
                      <a:gd name="textAreaRight" fmla="*/ 995040 w 995400"/>
                      <a:gd name="textAreaTop" fmla="*/ 360 h 1217520"/>
                      <a:gd name="textAreaBottom" fmla="*/ 1217160 h 1217520"/>
                    </a:gdLst>
                    <a:ahLst/>
                    <a:rect l="textAreaLeft" t="textAreaTop" r="textAreaRight" b="textAreaBottom"/>
                    <a:pathLst>
                      <a:path w="21600" h="26418">
                        <a:moveTo>
                          <a:pt x="34" y="0"/>
                        </a:moveTo>
                        <a:arcTo wR="34" hR="34" stAng="16200000" swAng="-5400000"/>
                        <a:lnTo>
                          <a:pt x="0" y="26384"/>
                        </a:lnTo>
                        <a:arcTo wR="34" hR="34" stAng="10800000" swAng="-5400000"/>
                        <a:lnTo>
                          <a:pt x="21566" y="26418"/>
                        </a:lnTo>
                        <a:arcTo wR="34" hR="34" stAng="5400000" swAng="-5400000"/>
                        <a:lnTo>
                          <a:pt x="21600" y="34"/>
                        </a:lnTo>
                        <a:arcTo wR="34" hR="34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81800" y="5221800"/>
                    <a:ext cx="1131840" cy="368280"/>
                  </a:xfrm>
                  <a:prstGeom prst="roundRect">
                    <a:avLst>
                      <a:gd name="adj" fmla="val 15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  <a:ea typeface="HG Mincho Light J"/>
                      </a:rPr>
                      <a:t>Semanti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5" name=""/>
            <p:cNvSpPr/>
            <p:nvPr/>
          </p:nvSpPr>
          <p:spPr>
            <a:xfrm flipH="1">
              <a:off x="1242720" y="5373720"/>
              <a:ext cx="23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 flipV="1">
            <a:off x="1181160" y="4142880"/>
            <a:ext cx="301680" cy="9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20800" y="1486080"/>
            <a:ext cx="57024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67040" y="3551400"/>
            <a:ext cx="820440" cy="657000"/>
            <a:chOff x="167040" y="3551400"/>
            <a:chExt cx="820440" cy="657000"/>
          </a:xfrm>
        </p:grpSpPr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250920" y="3551400"/>
              <a:ext cx="736560" cy="59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" name=""/>
            <p:cNvGrpSpPr/>
            <p:nvPr/>
          </p:nvGrpSpPr>
          <p:grpSpPr>
            <a:xfrm>
              <a:off x="167040" y="3654360"/>
              <a:ext cx="737640" cy="554040"/>
              <a:chOff x="167040" y="3654360"/>
              <a:chExt cx="737640" cy="554040"/>
            </a:xfrm>
          </p:grpSpPr>
          <p:sp>
            <p:nvSpPr>
              <p:cNvPr id="191" name=""/>
              <p:cNvSpPr/>
              <p:nvPr/>
            </p:nvSpPr>
            <p:spPr>
              <a:xfrm>
                <a:off x="219240" y="3654360"/>
                <a:ext cx="633240" cy="55404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67040" y="3654360"/>
                <a:ext cx="737640" cy="554040"/>
                <a:chOff x="167040" y="3654360"/>
                <a:chExt cx="737640" cy="5540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19240" y="3654360"/>
                  <a:ext cx="633240" cy="554040"/>
                </a:xfrm>
                <a:prstGeom prst="roundRect">
                  <a:avLst>
                    <a:gd name="adj" fmla="val 2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67040" y="3654720"/>
                  <a:ext cx="737640" cy="551520"/>
                </a:xfrm>
                <a:prstGeom prst="roundRect">
                  <a:avLst>
                    <a:gd name="adj" fmla="val 2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RACE_</a:t>
                  </a:r>
                  <a:br>
                    <a:rPr sz="1000"/>
                  </a:b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Message-</a:t>
                  </a:r>
                  <a:br>
                    <a:rPr sz="1000"/>
                  </a:b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Blo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"/>
          <p:cNvGrpSpPr/>
          <p:nvPr/>
        </p:nvGrpSpPr>
        <p:grpSpPr>
          <a:xfrm>
            <a:off x="167040" y="3048120"/>
            <a:ext cx="820440" cy="657000"/>
            <a:chOff x="167040" y="3048120"/>
            <a:chExt cx="820440" cy="65700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250920" y="3048120"/>
              <a:ext cx="736560" cy="59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"/>
            <p:cNvGrpSpPr/>
            <p:nvPr/>
          </p:nvGrpSpPr>
          <p:grpSpPr>
            <a:xfrm>
              <a:off x="167040" y="3149640"/>
              <a:ext cx="737640" cy="555480"/>
              <a:chOff x="167040" y="3149640"/>
              <a:chExt cx="737640" cy="555480"/>
            </a:xfrm>
          </p:grpSpPr>
          <p:sp>
            <p:nvSpPr>
              <p:cNvPr id="198" name=""/>
              <p:cNvSpPr/>
              <p:nvPr/>
            </p:nvSpPr>
            <p:spPr>
              <a:xfrm>
                <a:off x="219240" y="3149640"/>
                <a:ext cx="633240" cy="555480"/>
              </a:xfrm>
              <a:prstGeom prst="roundRect">
                <a:avLst>
                  <a:gd name="adj" fmla="val 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167040" y="3149640"/>
                <a:ext cx="737640" cy="555480"/>
                <a:chOff x="167040" y="3149640"/>
                <a:chExt cx="737640" cy="555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19240" y="3149640"/>
                  <a:ext cx="633240" cy="555480"/>
                </a:xfrm>
                <a:prstGeom prst="roundRect">
                  <a:avLst>
                    <a:gd name="adj" fmla="val 28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67040" y="3151440"/>
                  <a:ext cx="737640" cy="551520"/>
                </a:xfrm>
                <a:prstGeom prst="roundRect">
                  <a:avLst>
                    <a:gd name="adj" fmla="val 28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RACE_</a:t>
                  </a:r>
                  <a:br>
                    <a:rPr sz="1000"/>
                  </a:b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Message-</a:t>
                  </a:r>
                  <a:br>
                    <a:rPr sz="1000"/>
                  </a:b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Queu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2" name=""/>
          <p:cNvGrpSpPr/>
          <p:nvPr/>
        </p:nvGrpSpPr>
        <p:grpSpPr>
          <a:xfrm>
            <a:off x="3264120" y="4125960"/>
            <a:ext cx="820440" cy="657000"/>
            <a:chOff x="3264120" y="4125960"/>
            <a:chExt cx="820440" cy="657000"/>
          </a:xfrm>
        </p:grpSpPr>
        <p:pic>
          <p:nvPicPr>
            <p:cNvPr id="203" name="" descr=""/>
            <p:cNvPicPr/>
            <p:nvPr/>
          </p:nvPicPr>
          <p:blipFill>
            <a:blip r:embed="rId4"/>
            <a:stretch/>
          </p:blipFill>
          <p:spPr>
            <a:xfrm>
              <a:off x="3348000" y="4125960"/>
              <a:ext cx="736560" cy="59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"/>
            <p:cNvGrpSpPr/>
            <p:nvPr/>
          </p:nvGrpSpPr>
          <p:grpSpPr>
            <a:xfrm>
              <a:off x="3264120" y="4229280"/>
              <a:ext cx="737640" cy="553680"/>
              <a:chOff x="3264120" y="4229280"/>
              <a:chExt cx="737640" cy="553680"/>
            </a:xfrm>
          </p:grpSpPr>
          <p:sp>
            <p:nvSpPr>
              <p:cNvPr id="205" name=""/>
              <p:cNvSpPr/>
              <p:nvPr/>
            </p:nvSpPr>
            <p:spPr>
              <a:xfrm>
                <a:off x="3316320" y="4229280"/>
                <a:ext cx="635040" cy="55368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264120" y="4229280"/>
                <a:ext cx="737640" cy="553680"/>
                <a:chOff x="3264120" y="4229280"/>
                <a:chExt cx="737640" cy="5536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316320" y="4229280"/>
                  <a:ext cx="633240" cy="553680"/>
                </a:xfrm>
                <a:prstGeom prst="roundRect">
                  <a:avLst>
                    <a:gd name="adj" fmla="val 2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264120" y="4230360"/>
                  <a:ext cx="737640" cy="551520"/>
                </a:xfrm>
                <a:prstGeom prst="roundRect">
                  <a:avLst>
                    <a:gd name="adj" fmla="val 2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ACE_</a:t>
                  </a:r>
                  <a:br>
                    <a:rPr sz="1000"/>
                  </a:b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Message-</a:t>
                  </a:r>
                  <a:br>
                    <a:rPr sz="1000"/>
                  </a:b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Blo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9" name=""/>
          <p:cNvGrpSpPr/>
          <p:nvPr/>
        </p:nvGrpSpPr>
        <p:grpSpPr>
          <a:xfrm>
            <a:off x="3264120" y="3622680"/>
            <a:ext cx="820440" cy="657360"/>
            <a:chOff x="3264120" y="3622680"/>
            <a:chExt cx="820440" cy="657360"/>
          </a:xfrm>
        </p:grpSpPr>
        <p:pic>
          <p:nvPicPr>
            <p:cNvPr id="210" name="" descr=""/>
            <p:cNvPicPr/>
            <p:nvPr/>
          </p:nvPicPr>
          <p:blipFill>
            <a:blip r:embed="rId5"/>
            <a:stretch/>
          </p:blipFill>
          <p:spPr>
            <a:xfrm>
              <a:off x="3348000" y="3622680"/>
              <a:ext cx="736560" cy="59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3264120" y="3726000"/>
              <a:ext cx="737640" cy="554040"/>
              <a:chOff x="3264120" y="3726000"/>
              <a:chExt cx="737640" cy="554040"/>
            </a:xfrm>
          </p:grpSpPr>
          <p:sp>
            <p:nvSpPr>
              <p:cNvPr id="212" name=""/>
              <p:cNvSpPr/>
              <p:nvPr/>
            </p:nvSpPr>
            <p:spPr>
              <a:xfrm>
                <a:off x="3316320" y="3726000"/>
                <a:ext cx="635040" cy="55404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3264120" y="3726000"/>
                <a:ext cx="737640" cy="554040"/>
                <a:chOff x="3264120" y="3726000"/>
                <a:chExt cx="737640" cy="5540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16320" y="3726000"/>
                  <a:ext cx="633240" cy="554040"/>
                </a:xfrm>
                <a:prstGeom prst="roundRect">
                  <a:avLst>
                    <a:gd name="adj" fmla="val 2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4120" y="3727080"/>
                  <a:ext cx="737640" cy="551520"/>
                </a:xfrm>
                <a:prstGeom prst="roundRect">
                  <a:avLst>
                    <a:gd name="adj" fmla="val 2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ACE_</a:t>
                  </a:r>
                  <a:br>
                    <a:rPr sz="1000"/>
                  </a:b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Message-</a:t>
                  </a:r>
                  <a:br>
                    <a:rPr sz="1000"/>
                  </a:b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Queu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" name=""/>
          <p:cNvGrpSpPr/>
          <p:nvPr/>
        </p:nvGrpSpPr>
        <p:grpSpPr>
          <a:xfrm>
            <a:off x="4319640" y="3708360"/>
            <a:ext cx="5684760" cy="1289160"/>
            <a:chOff x="4319640" y="3708360"/>
            <a:chExt cx="5684760" cy="1289160"/>
          </a:xfrm>
        </p:grpSpPr>
        <p:sp>
          <p:nvSpPr>
            <p:cNvPr id="217" name=""/>
            <p:cNvSpPr/>
            <p:nvPr/>
          </p:nvSpPr>
          <p:spPr>
            <a:xfrm>
              <a:off x="4319640" y="3708360"/>
              <a:ext cx="5684760" cy="1289160"/>
            </a:xfrm>
            <a:prstGeom prst="roundRect">
              <a:avLst>
                <a:gd name="adj" fmla="val 12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19640" y="3708360"/>
              <a:ext cx="5684760" cy="11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62080">
                <a:lnSpc>
                  <a:spcPct val="100000"/>
                </a:lnSpc>
                <a:spcBef>
                  <a:spcPts val="11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Klasse Messageblock nicht ableitb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262080">
                <a:lnSpc>
                  <a:spcPct val="100000"/>
                </a:lnSpc>
                <a:spcBef>
                  <a:spcPts val="11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Queue-Füllstandskriterium nicht kontrollierb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262080">
                <a:lnSpc>
                  <a:spcPct val="100000"/>
                </a:lnSpc>
                <a:spcBef>
                  <a:spcPts val="11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Queue-Kapazität nicht steuerb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09880" y="2541600"/>
            <a:ext cx="779040" cy="657360"/>
            <a:chOff x="209880" y="2541600"/>
            <a:chExt cx="779040" cy="657360"/>
          </a:xfrm>
        </p:grpSpPr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250920" y="2541600"/>
              <a:ext cx="738000" cy="59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"/>
            <p:cNvGrpSpPr/>
            <p:nvPr/>
          </p:nvGrpSpPr>
          <p:grpSpPr>
            <a:xfrm>
              <a:off x="209880" y="2644920"/>
              <a:ext cx="652320" cy="554040"/>
              <a:chOff x="209880" y="2644920"/>
              <a:chExt cx="652320" cy="55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250920" y="2644920"/>
                <a:ext cx="569880" cy="554040"/>
              </a:xfrm>
              <a:prstGeom prst="roundRect">
                <a:avLst>
                  <a:gd name="adj" fmla="val 2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9880" y="2644920"/>
                <a:ext cx="652320" cy="554040"/>
                <a:chOff x="209880" y="2644920"/>
                <a:chExt cx="652320" cy="5540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50920" y="2644920"/>
                  <a:ext cx="569880" cy="554040"/>
                </a:xfrm>
                <a:prstGeom prst="roundRect">
                  <a:avLst>
                    <a:gd name="adj" fmla="val 2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09880" y="2646000"/>
                  <a:ext cx="652320" cy="551520"/>
                </a:xfrm>
                <a:prstGeom prst="roundRect">
                  <a:avLst>
                    <a:gd name="adj" fmla="val 2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RACE_</a:t>
                  </a:r>
                  <a:br>
                    <a:rPr sz="1000"/>
                  </a:b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Queue_</a:t>
                  </a:r>
                  <a:br>
                    <a:rPr sz="1000"/>
                  </a:b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HG Mincho Light J"/>
                    </a:rPr>
                    <a:t>Strateg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6" name=""/>
          <p:cNvSpPr/>
          <p:nvPr/>
        </p:nvSpPr>
        <p:spPr>
          <a:xfrm>
            <a:off x="2699640" y="331920"/>
            <a:ext cx="4006440" cy="397080"/>
          </a:xfrm>
          <a:prstGeom prst="roundRect">
            <a:avLst>
              <a:gd name="adj" fmla="val 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RACE als ACE-Verbesser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73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gewandte M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mantikmuster als Spezialfall von Vistor-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gie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Objekt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ad specific singe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040" y="450360"/>
            <a:ext cx="78058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sistenz/Transient-M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s persistente Speicherlayout wird auf der Platte/im geteilten Segment/Netzwerkgerät geschrieben und ge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gibt transiente Zugriffsstrukturen, die diese Erzeugen und Implementi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