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3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4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71040" y="4160520"/>
            <a:ext cx="7804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3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0280" y="190656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71040" y="416052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0280" y="416052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3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25128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09840" y="1906560"/>
            <a:ext cx="25128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8640" y="1906560"/>
            <a:ext cx="25128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71040" y="4160520"/>
            <a:ext cx="25128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09840" y="4160520"/>
            <a:ext cx="25128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8640" y="4160520"/>
            <a:ext cx="25128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3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71040" y="1906560"/>
            <a:ext cx="7804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3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4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3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8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0280" y="1906560"/>
            <a:ext cx="3808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3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71040" y="450360"/>
            <a:ext cx="7804440" cy="64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3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906560"/>
            <a:ext cx="3808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71040" y="416052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3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8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0280" y="190656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0280" y="416052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3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0280" y="190656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71040" y="4160520"/>
            <a:ext cx="7804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7524720" y="6129360"/>
            <a:ext cx="1505160" cy="601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4440" cy="13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71040" y="1906560"/>
            <a:ext cx="7804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spcBef>
                <a:spcPts val="788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88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88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88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88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5880" cy="13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R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71040" y="1906560"/>
            <a:ext cx="780588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Ravensburger Adaptive Computing Environm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rweiterung von 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dolf We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CS AG RV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formatik- und Netzwerkverein Ravensburg e.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7320" cy="13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isherige konkrete Anwendungen von R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7320" cy="43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ufzeichnungs- und Wiedergabekomponente eines verteilten Führungs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gstrukturierte Persistenzkomponente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vereinfacht key-value-Beispi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MEA0183-Interpr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gging von XML-Str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pretation von tcpdumps (in Arbe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7320" cy="13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omponenten von R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rrorlogging: Stream-basiert, mit minimalen locking durch thread specific  singleton, Backends stdout/sys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ssage-Handling für Transportkompone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igh-Performance Logging/Logfile-Re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ichersegmente mit Persistenz-Q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7320" cy="13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wendungsmöglichkeiten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CE-Biblioth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gemeines Protokollhandling in Transportkompone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ghperformance Schreiben und Lesen von Logfiles mit komplexen Snatsh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gstrukturierte Datenverwaltu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3924360" y="981000"/>
            <a:ext cx="2641680" cy="1997280"/>
            <a:chOff x="3924360" y="981000"/>
            <a:chExt cx="2641680" cy="1997280"/>
          </a:xfrm>
        </p:grpSpPr>
        <p:grpSp>
          <p:nvGrpSpPr>
            <p:cNvPr id="49" name=""/>
            <p:cNvGrpSpPr/>
            <p:nvPr/>
          </p:nvGrpSpPr>
          <p:grpSpPr>
            <a:xfrm>
              <a:off x="4356000" y="981000"/>
              <a:ext cx="2210040" cy="1997280"/>
              <a:chOff x="4356000" y="981000"/>
              <a:chExt cx="2210040" cy="1997280"/>
            </a:xfrm>
          </p:grpSpPr>
          <p:sp>
            <p:nvSpPr>
              <p:cNvPr id="50" name=""/>
              <p:cNvSpPr/>
              <p:nvPr/>
            </p:nvSpPr>
            <p:spPr>
              <a:xfrm>
                <a:off x="4356000" y="981000"/>
                <a:ext cx="2210040" cy="1997280"/>
              </a:xfrm>
              <a:prstGeom prst="roundRect">
                <a:avLst>
                  <a:gd name="adj" fmla="val 79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4645080" y="1123920"/>
                <a:ext cx="171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11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  <a:ea typeface="HG Mincho Light J"/>
                  </a:rPr>
                  <a:t>RACE_Logg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4500720" y="1622520"/>
                <a:ext cx="1074600" cy="566640"/>
                <a:chOff x="4500720" y="1622520"/>
                <a:chExt cx="1074600" cy="56664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4500720" y="1622520"/>
                  <a:ext cx="107460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4500720" y="2187720"/>
                  <a:ext cx="107460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5" name=""/>
                <p:cNvGrpSpPr/>
                <p:nvPr/>
              </p:nvGrpSpPr>
              <p:grpSpPr>
                <a:xfrm>
                  <a:off x="4714920" y="1622520"/>
                  <a:ext cx="857160" cy="561960"/>
                  <a:chOff x="4714920" y="1622520"/>
                  <a:chExt cx="857160" cy="561960"/>
                </a:xfrm>
              </p:grpSpPr>
              <p:sp>
                <p:nvSpPr>
                  <p:cNvPr id="56" name=""/>
                  <p:cNvSpPr/>
                  <p:nvPr/>
                </p:nvSpPr>
                <p:spPr>
                  <a:xfrm>
                    <a:off x="4714920" y="1622520"/>
                    <a:ext cx="1440" cy="561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4929120" y="1622520"/>
                    <a:ext cx="1800" cy="561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5141880" y="1622520"/>
                    <a:ext cx="1800" cy="561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5354640" y="1622520"/>
                    <a:ext cx="1440" cy="561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5570640" y="1622520"/>
                    <a:ext cx="1440" cy="561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1" name=""/>
              <p:cNvGrpSpPr/>
              <p:nvPr/>
            </p:nvGrpSpPr>
            <p:grpSpPr>
              <a:xfrm>
                <a:off x="5653080" y="1622520"/>
                <a:ext cx="334800" cy="353880"/>
                <a:chOff x="5653080" y="1622520"/>
                <a:chExt cx="334800" cy="35388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5653080" y="1622520"/>
                  <a:ext cx="334800" cy="35388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5767560" y="1622520"/>
                  <a:ext cx="11880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" name=""/>
              <p:cNvSpPr/>
              <p:nvPr/>
            </p:nvSpPr>
            <p:spPr>
              <a:xfrm>
                <a:off x="4643280" y="2409840"/>
                <a:ext cx="1611360" cy="358920"/>
              </a:xfrm>
              <a:prstGeom prst="roundRect">
                <a:avLst>
                  <a:gd name="adj" fmla="val 44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643280" y="2436840"/>
                <a:ext cx="1635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  <a:ea typeface="HG Mincho Light J"/>
                  </a:rPr>
                  <a:t>RACE_Accumula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580000" y="1836720"/>
                <a:ext cx="358920" cy="64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3924360" y="1914480"/>
              <a:ext cx="57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920" y="-498960"/>
            <a:ext cx="822960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HG Mincho Light J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HG Mincho Light J"/>
              </a:rPr>
              <a:t>RACE-Logger und Logfilelese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737080" y="1628640"/>
            <a:ext cx="1218600" cy="623880"/>
            <a:chOff x="2737080" y="1628640"/>
            <a:chExt cx="1218600" cy="623880"/>
          </a:xfrm>
        </p:grpSpPr>
        <p:sp>
          <p:nvSpPr>
            <p:cNvPr id="70" name=""/>
            <p:cNvSpPr/>
            <p:nvPr/>
          </p:nvSpPr>
          <p:spPr>
            <a:xfrm>
              <a:off x="2771640" y="1628640"/>
              <a:ext cx="1149480" cy="623880"/>
            </a:xfrm>
            <a:prstGeom prst="roundRect">
              <a:avLst>
                <a:gd name="adj" fmla="val 255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2737080" y="1628640"/>
              <a:ext cx="1218600" cy="623880"/>
              <a:chOff x="2737080" y="1628640"/>
              <a:chExt cx="1218600" cy="623880"/>
            </a:xfrm>
          </p:grpSpPr>
          <p:sp>
            <p:nvSpPr>
              <p:cNvPr id="72" name=""/>
              <p:cNvSpPr/>
              <p:nvPr/>
            </p:nvSpPr>
            <p:spPr>
              <a:xfrm>
                <a:off x="2771640" y="1628640"/>
                <a:ext cx="1149480" cy="623880"/>
              </a:xfrm>
              <a:prstGeom prst="roundRect">
                <a:avLst>
                  <a:gd name="adj" fmla="val 25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737080" y="1756440"/>
                <a:ext cx="1218600" cy="368280"/>
              </a:xfrm>
              <a:prstGeom prst="roundRect">
                <a:avLst>
                  <a:gd name="adj" fmla="val 25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  <a:ea typeface="HG Mincho Light J"/>
                  </a:rPr>
                  <a:t>Dumpabl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" name=""/>
          <p:cNvSpPr/>
          <p:nvPr/>
        </p:nvSpPr>
        <p:spPr>
          <a:xfrm>
            <a:off x="6588000" y="5013360"/>
            <a:ext cx="1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6948360" y="1989000"/>
            <a:ext cx="1957680" cy="3021120"/>
            <a:chOff x="6948360" y="1989000"/>
            <a:chExt cx="1957680" cy="3021120"/>
          </a:xfrm>
        </p:grpSpPr>
        <p:grpSp>
          <p:nvGrpSpPr>
            <p:cNvPr id="76" name=""/>
            <p:cNvGrpSpPr/>
            <p:nvPr/>
          </p:nvGrpSpPr>
          <p:grpSpPr>
            <a:xfrm>
              <a:off x="6948360" y="1989000"/>
              <a:ext cx="1797120" cy="3021120"/>
              <a:chOff x="6948360" y="1989000"/>
              <a:chExt cx="1797120" cy="3021120"/>
            </a:xfrm>
          </p:grpSpPr>
          <p:sp>
            <p:nvSpPr>
              <p:cNvPr id="77" name=""/>
              <p:cNvSpPr/>
              <p:nvPr/>
            </p:nvSpPr>
            <p:spPr>
              <a:xfrm>
                <a:off x="6948360" y="1989000"/>
                <a:ext cx="1797120" cy="3021120"/>
              </a:xfrm>
              <a:custGeom>
                <a:avLst/>
                <a:gdLst/>
                <a:ahLst/>
                <a:rect l="l" t="t" r="r" b="b"/>
                <a:pathLst>
                  <a:path w="4993" h="8393">
                    <a:moveTo>
                      <a:pt x="2496" y="0"/>
                    </a:moveTo>
                    <a:cubicBezTo>
                      <a:pt x="1134" y="0"/>
                      <a:pt x="0" y="477"/>
                      <a:pt x="0" y="1049"/>
                    </a:cubicBezTo>
                    <a:lnTo>
                      <a:pt x="0" y="7343"/>
                    </a:lnTo>
                    <a:cubicBezTo>
                      <a:pt x="0" y="7914"/>
                      <a:pt x="1134" y="8392"/>
                      <a:pt x="2496" y="8392"/>
                    </a:cubicBezTo>
                    <a:cubicBezTo>
                      <a:pt x="3858" y="8392"/>
                      <a:pt x="4992" y="7914"/>
                      <a:pt x="4992" y="7343"/>
                    </a:cubicBezTo>
                    <a:lnTo>
                      <a:pt x="4992" y="1049"/>
                    </a:lnTo>
                    <a:cubicBezTo>
                      <a:pt x="4992" y="477"/>
                      <a:pt x="3858" y="0"/>
                      <a:pt x="2496" y="0"/>
                    </a:cubicBezTo>
                    <a:lnTo>
                      <a:pt x="2496" y="0"/>
                    </a:ln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948360" y="1989000"/>
                <a:ext cx="1797120" cy="755640"/>
              </a:xfrm>
              <a:custGeom>
                <a:avLst/>
                <a:gdLst/>
                <a:ahLst/>
                <a:rect l="l" t="t" r="r" b="b"/>
                <a:pathLst>
                  <a:path w="4993" h="2098">
                    <a:moveTo>
                      <a:pt x="2496" y="0"/>
                    </a:moveTo>
                    <a:cubicBezTo>
                      <a:pt x="1134" y="0"/>
                      <a:pt x="0" y="476"/>
                      <a:pt x="0" y="1048"/>
                    </a:cubicBezTo>
                    <a:cubicBezTo>
                      <a:pt x="0" y="1620"/>
                      <a:pt x="1134" y="2097"/>
                      <a:pt x="2496" y="2097"/>
                    </a:cubicBezTo>
                    <a:cubicBezTo>
                      <a:pt x="3858" y="2097"/>
                      <a:pt x="4992" y="1620"/>
                      <a:pt x="4992" y="1048"/>
                    </a:cubicBezTo>
                    <a:cubicBezTo>
                      <a:pt x="4992" y="476"/>
                      <a:pt x="3858" y="0"/>
                      <a:pt x="2496" y="0"/>
                    </a:cubicBezTo>
                    <a:lnTo>
                      <a:pt x="2496" y="0"/>
                    </a:lnTo>
                  </a:path>
                </a:pathLst>
              </a:custGeom>
              <a:solidFill>
                <a:srgbClr val="ccf5f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6966000" y="2276640"/>
              <a:ext cx="1940040" cy="2660400"/>
              <a:chOff x="6966000" y="2276640"/>
              <a:chExt cx="1940040" cy="2660400"/>
            </a:xfrm>
          </p:grpSpPr>
          <p:grpSp>
            <p:nvGrpSpPr>
              <p:cNvPr id="80" name=""/>
              <p:cNvGrpSpPr/>
              <p:nvPr/>
            </p:nvGrpSpPr>
            <p:grpSpPr>
              <a:xfrm>
                <a:off x="6966000" y="2922120"/>
                <a:ext cx="1940040" cy="2014920"/>
                <a:chOff x="6966000" y="2922120"/>
                <a:chExt cx="1940040" cy="2014920"/>
              </a:xfrm>
            </p:grpSpPr>
            <p:grpSp>
              <p:nvGrpSpPr>
                <p:cNvPr id="81" name=""/>
                <p:cNvGrpSpPr/>
                <p:nvPr/>
              </p:nvGrpSpPr>
              <p:grpSpPr>
                <a:xfrm>
                  <a:off x="7523280" y="2924280"/>
                  <a:ext cx="717480" cy="2012760"/>
                  <a:chOff x="7523280" y="2924280"/>
                  <a:chExt cx="717480" cy="2012760"/>
                </a:xfrm>
              </p:grpSpPr>
              <p:sp>
                <p:nvSpPr>
                  <p:cNvPr id="82" name=""/>
                  <p:cNvSpPr/>
                  <p:nvPr/>
                </p:nvSpPr>
                <p:spPr>
                  <a:xfrm>
                    <a:off x="7523280" y="2924280"/>
                    <a:ext cx="717480" cy="358560"/>
                  </a:xfrm>
                  <a:prstGeom prst="roundRect">
                    <a:avLst>
                      <a:gd name="adj" fmla="val 440"/>
                    </a:avLst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23280" y="3282840"/>
                    <a:ext cx="717480" cy="360360"/>
                  </a:xfrm>
                  <a:prstGeom prst="roundRect">
                    <a:avLst>
                      <a:gd name="adj" fmla="val 440"/>
                    </a:avLst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4" name=""/>
                  <p:cNvGrpSpPr/>
                  <p:nvPr/>
                </p:nvGrpSpPr>
                <p:grpSpPr>
                  <a:xfrm>
                    <a:off x="7523280" y="4363920"/>
                    <a:ext cx="714240" cy="573120"/>
                    <a:chOff x="7523280" y="4363920"/>
                    <a:chExt cx="714240" cy="573120"/>
                  </a:xfrm>
                </p:grpSpPr>
                <p:sp>
                  <p:nvSpPr>
                    <p:cNvPr id="85" name=""/>
                    <p:cNvSpPr/>
                    <p:nvPr/>
                  </p:nvSpPr>
                  <p:spPr>
                    <a:xfrm>
                      <a:off x="7523280" y="4363920"/>
                      <a:ext cx="714240" cy="573120"/>
                    </a:xfrm>
                    <a:prstGeom prst="roundRect">
                      <a:avLst>
                        <a:gd name="adj" fmla="val 278"/>
                      </a:avLst>
                    </a:prstGeom>
                    <a:solidFill>
                      <a:srgbClr val="bbe0e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" name=""/>
                    <p:cNvSpPr/>
                    <p:nvPr/>
                  </p:nvSpPr>
                  <p:spPr>
                    <a:xfrm>
                      <a:off x="7523280" y="4651200"/>
                      <a:ext cx="714240" cy="1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" name=""/>
                    <p:cNvSpPr/>
                    <p:nvPr/>
                  </p:nvSpPr>
                  <p:spPr>
                    <a:xfrm>
                      <a:off x="7523280" y="4508640"/>
                      <a:ext cx="714240" cy="14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" name=""/>
                    <p:cNvSpPr/>
                    <p:nvPr/>
                  </p:nvSpPr>
                  <p:spPr>
                    <a:xfrm>
                      <a:off x="7523280" y="4792680"/>
                      <a:ext cx="714240" cy="14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" name=""/>
                    <p:cNvSpPr/>
                    <p:nvPr/>
                  </p:nvSpPr>
                  <p:spPr>
                    <a:xfrm>
                      <a:off x="7808760" y="4363920"/>
                      <a:ext cx="1800" cy="5731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0" name=""/>
                  <p:cNvSpPr/>
                  <p:nvPr/>
                </p:nvSpPr>
                <p:spPr>
                  <a:xfrm>
                    <a:off x="7523280" y="3643200"/>
                    <a:ext cx="717480" cy="289080"/>
                  </a:xfrm>
                  <a:prstGeom prst="roundRect">
                    <a:avLst>
                      <a:gd name="adj" fmla="val 546"/>
                    </a:avLst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523280" y="3932280"/>
                    <a:ext cx="717480" cy="431640"/>
                  </a:xfrm>
                  <a:prstGeom prst="roundRect">
                    <a:avLst>
                      <a:gd name="adj" fmla="val 366"/>
                    </a:avLst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6966000" y="2922120"/>
                  <a:ext cx="1697040" cy="1510200"/>
                  <a:chOff x="6966000" y="2922120"/>
                  <a:chExt cx="1697040" cy="1510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>
                    <a:off x="6966000" y="2927520"/>
                    <a:ext cx="1697040" cy="15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4716" h="4181">
                        <a:moveTo>
                          <a:pt x="3161" y="4180"/>
                        </a:moveTo>
                        <a:cubicBezTo>
                          <a:pt x="3366" y="4004"/>
                          <a:pt x="4222" y="3499"/>
                          <a:pt x="4371" y="3135"/>
                        </a:cubicBezTo>
                        <a:cubicBezTo>
                          <a:pt x="4520" y="2770"/>
                          <a:pt x="4715" y="2378"/>
                          <a:pt x="4063" y="1989"/>
                        </a:cubicBezTo>
                        <a:cubicBezTo>
                          <a:pt x="3411" y="1599"/>
                          <a:pt x="905" y="1125"/>
                          <a:pt x="452" y="794"/>
                        </a:cubicBezTo>
                        <a:cubicBezTo>
                          <a:pt x="0" y="465"/>
                          <a:pt x="1203" y="132"/>
                          <a:pt x="1352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V="1">
                    <a:off x="7289640" y="2922120"/>
                    <a:ext cx="163800" cy="81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026120" y="3281040"/>
                  <a:ext cx="1879920" cy="1295640"/>
                  <a:chOff x="7026120" y="3281040"/>
                  <a:chExt cx="1879920" cy="129564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>
                    <a:off x="7026120" y="3359160"/>
                    <a:ext cx="1879920" cy="1217520"/>
                  </a:xfrm>
                  <a:custGeom>
                    <a:avLst/>
                    <a:gdLst/>
                    <a:ahLst/>
                    <a:rect l="l" t="t" r="r" b="b"/>
                    <a:pathLst>
                      <a:path w="5219" h="3384">
                        <a:moveTo>
                          <a:pt x="2992" y="3383"/>
                        </a:moveTo>
                        <a:cubicBezTo>
                          <a:pt x="4102" y="2815"/>
                          <a:pt x="5218" y="2254"/>
                          <a:pt x="4832" y="1788"/>
                        </a:cubicBezTo>
                        <a:cubicBezTo>
                          <a:pt x="4448" y="1323"/>
                          <a:pt x="1378" y="891"/>
                          <a:pt x="689" y="594"/>
                        </a:cubicBezTo>
                        <a:cubicBezTo>
                          <a:pt x="0" y="297"/>
                          <a:pt x="689" y="99"/>
                          <a:pt x="689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V="1">
                    <a:off x="7273800" y="3281040"/>
                    <a:ext cx="166680" cy="82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8" name=""/>
              <p:cNvSpPr/>
              <p:nvPr/>
            </p:nvSpPr>
            <p:spPr>
              <a:xfrm>
                <a:off x="7451640" y="2276640"/>
                <a:ext cx="857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  <a:ea typeface="HG Mincho Light J"/>
                  </a:rPr>
                  <a:t>Logfil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9" name=""/>
          <p:cNvGrpSpPr/>
          <p:nvPr/>
        </p:nvGrpSpPr>
        <p:grpSpPr>
          <a:xfrm>
            <a:off x="4572000" y="3860640"/>
            <a:ext cx="1941480" cy="2300400"/>
            <a:chOff x="4572000" y="3860640"/>
            <a:chExt cx="1941480" cy="2300400"/>
          </a:xfrm>
        </p:grpSpPr>
        <p:sp>
          <p:nvSpPr>
            <p:cNvPr id="100" name=""/>
            <p:cNvSpPr/>
            <p:nvPr/>
          </p:nvSpPr>
          <p:spPr>
            <a:xfrm>
              <a:off x="4572000" y="3860640"/>
              <a:ext cx="1941480" cy="2300400"/>
            </a:xfrm>
            <a:custGeom>
              <a:avLst/>
              <a:gdLst>
                <a:gd name="textAreaLeft" fmla="*/ 360 w 1941480"/>
                <a:gd name="textAreaRight" fmla="*/ 1941120 w 1941480"/>
                <a:gd name="textAreaTop" fmla="*/ 360 h 2300400"/>
                <a:gd name="textAreaBottom" fmla="*/ 2300040 h 2300400"/>
              </a:gdLst>
              <a:ahLst/>
              <a:rect l="textAreaLeft" t="textAreaTop" r="textAreaRight" b="textAreaBottom"/>
              <a:pathLst>
                <a:path w="21600" h="25592">
                  <a:moveTo>
                    <a:pt x="17" y="0"/>
                  </a:moveTo>
                  <a:arcTo wR="17" hR="17" stAng="16200000" swAng="-5400000"/>
                  <a:lnTo>
                    <a:pt x="0" y="25575"/>
                  </a:lnTo>
                  <a:arcTo wR="17" hR="17" stAng="10800000" swAng="-5400000"/>
                  <a:lnTo>
                    <a:pt x="21583" y="25592"/>
                  </a:lnTo>
                  <a:arcTo wR="17" hR="17" stAng="5400000" swAng="-5400000"/>
                  <a:lnTo>
                    <a:pt x="21600" y="17"/>
                  </a:lnTo>
                  <a:arcTo wR="17" hR="17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4643280" y="4003560"/>
              <a:ext cx="1764000" cy="1870200"/>
              <a:chOff x="4643280" y="4003560"/>
              <a:chExt cx="1764000" cy="1870200"/>
            </a:xfrm>
          </p:grpSpPr>
          <p:sp>
            <p:nvSpPr>
              <p:cNvPr id="102" name=""/>
              <p:cNvSpPr/>
              <p:nvPr/>
            </p:nvSpPr>
            <p:spPr>
              <a:xfrm>
                <a:off x="4643280" y="4003560"/>
                <a:ext cx="1764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  <a:ea typeface="HG Mincho Light J"/>
                  </a:rPr>
                  <a:t>RACE_Read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788000" y="4578480"/>
                <a:ext cx="1436760" cy="1295280"/>
              </a:xfrm>
              <a:prstGeom prst="roundRect">
                <a:avLst>
                  <a:gd name="adj" fmla="val 12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4" name=""/>
              <p:cNvGrpSpPr/>
              <p:nvPr/>
            </p:nvGrpSpPr>
            <p:grpSpPr>
              <a:xfrm>
                <a:off x="4711320" y="4649760"/>
                <a:ext cx="1464480" cy="282600"/>
                <a:chOff x="4711320" y="4649760"/>
                <a:chExt cx="1464480" cy="28260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4716360" y="4649760"/>
                  <a:ext cx="1455840" cy="282600"/>
                </a:xfrm>
                <a:prstGeom prst="roundRect">
                  <a:avLst>
                    <a:gd name="adj" fmla="val 560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4711320" y="4651200"/>
                  <a:ext cx="1464480" cy="277200"/>
                </a:xfrm>
                <a:prstGeom prst="roundRect">
                  <a:avLst>
                    <a:gd name="adj" fmla="val 560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Arial"/>
                      <a:ea typeface="HG Mincho Light J"/>
                    </a:rPr>
                    <a:t>RACE_ReadBuff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7" name=""/>
          <p:cNvGrpSpPr/>
          <p:nvPr/>
        </p:nvGrpSpPr>
        <p:grpSpPr>
          <a:xfrm>
            <a:off x="6226560" y="2708280"/>
            <a:ext cx="983880" cy="694080"/>
            <a:chOff x="6226560" y="2708280"/>
            <a:chExt cx="983880" cy="694080"/>
          </a:xfrm>
        </p:grpSpPr>
        <p:sp>
          <p:nvSpPr>
            <p:cNvPr id="108" name=""/>
            <p:cNvSpPr/>
            <p:nvPr/>
          </p:nvSpPr>
          <p:spPr>
            <a:xfrm>
              <a:off x="6237360" y="2708280"/>
              <a:ext cx="973080" cy="62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6226560" y="2784600"/>
              <a:ext cx="779760" cy="617760"/>
              <a:chOff x="6226560" y="2784600"/>
              <a:chExt cx="779760" cy="617760"/>
            </a:xfrm>
          </p:grpSpPr>
          <p:sp>
            <p:nvSpPr>
              <p:cNvPr id="110" name=""/>
              <p:cNvSpPr/>
              <p:nvPr/>
            </p:nvSpPr>
            <p:spPr>
              <a:xfrm rot="1920000">
                <a:off x="6235200" y="2967120"/>
                <a:ext cx="762120" cy="252360"/>
              </a:xfrm>
              <a:prstGeom prst="roundRect">
                <a:avLst>
                  <a:gd name="adj" fmla="val 63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20000">
                <a:off x="6238800" y="2967480"/>
                <a:ext cx="757440" cy="246960"/>
              </a:xfrm>
              <a:prstGeom prst="roundRect">
                <a:avLst>
                  <a:gd name="adj" fmla="val 63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  <a:ea typeface="HG Mincho Light J"/>
                  </a:rPr>
                  <a:t>4K-Blöck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" name=""/>
          <p:cNvGrpSpPr/>
          <p:nvPr/>
        </p:nvGrpSpPr>
        <p:grpSpPr>
          <a:xfrm>
            <a:off x="1441080" y="4724280"/>
            <a:ext cx="3129480" cy="1149480"/>
            <a:chOff x="1441080" y="4724280"/>
            <a:chExt cx="3129480" cy="1149480"/>
          </a:xfrm>
        </p:grpSpPr>
        <p:sp>
          <p:nvSpPr>
            <p:cNvPr id="113" name=""/>
            <p:cNvSpPr/>
            <p:nvPr/>
          </p:nvSpPr>
          <p:spPr>
            <a:xfrm flipH="1">
              <a:off x="4200480" y="5300640"/>
              <a:ext cx="370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1441080" y="4724280"/>
              <a:ext cx="2779920" cy="1149480"/>
              <a:chOff x="1441080" y="4724280"/>
              <a:chExt cx="2779920" cy="1149480"/>
            </a:xfrm>
          </p:grpSpPr>
          <p:grpSp>
            <p:nvGrpSpPr>
              <p:cNvPr id="115" name=""/>
              <p:cNvGrpSpPr/>
              <p:nvPr/>
            </p:nvGrpSpPr>
            <p:grpSpPr>
              <a:xfrm>
                <a:off x="1441080" y="5084640"/>
                <a:ext cx="1218600" cy="623880"/>
                <a:chOff x="1441080" y="5084640"/>
                <a:chExt cx="1218600" cy="62388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1476360" y="5084640"/>
                  <a:ext cx="1149480" cy="623880"/>
                </a:xfrm>
                <a:prstGeom prst="roundRect">
                  <a:avLst>
                    <a:gd name="adj" fmla="val 255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7" name=""/>
                <p:cNvGrpSpPr/>
                <p:nvPr/>
              </p:nvGrpSpPr>
              <p:grpSpPr>
                <a:xfrm>
                  <a:off x="1441080" y="5084640"/>
                  <a:ext cx="1218600" cy="623880"/>
                  <a:chOff x="1441080" y="5084640"/>
                  <a:chExt cx="1218600" cy="623880"/>
                </a:xfrm>
              </p:grpSpPr>
              <p:sp>
                <p:nvSpPr>
                  <p:cNvPr id="118" name=""/>
                  <p:cNvSpPr/>
                  <p:nvPr/>
                </p:nvSpPr>
                <p:spPr>
                  <a:xfrm>
                    <a:off x="1476360" y="5084640"/>
                    <a:ext cx="1149480" cy="623880"/>
                  </a:xfrm>
                  <a:prstGeom prst="roundRect">
                    <a:avLst>
                      <a:gd name="adj" fmla="val 255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1441080" y="5212440"/>
                    <a:ext cx="1218600" cy="368280"/>
                  </a:xfrm>
                  <a:prstGeom prst="roundRect">
                    <a:avLst>
                      <a:gd name="adj" fmla="val 255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Arial"/>
                        <a:ea typeface="HG Mincho Light J"/>
                      </a:rPr>
                      <a:t>Dumpable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0" name=""/>
              <p:cNvGrpSpPr/>
              <p:nvPr/>
            </p:nvGrpSpPr>
            <p:grpSpPr>
              <a:xfrm>
                <a:off x="2984400" y="4724280"/>
                <a:ext cx="1236600" cy="1149480"/>
                <a:chOff x="2984400" y="4724280"/>
                <a:chExt cx="1236600" cy="114948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2984400" y="4724280"/>
                  <a:ext cx="1224000" cy="1149480"/>
                </a:xfrm>
                <a:prstGeom prst="roundRect">
                  <a:avLst>
                    <a:gd name="adj" fmla="val 134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2" name=""/>
                <p:cNvGrpSpPr/>
                <p:nvPr/>
              </p:nvGrpSpPr>
              <p:grpSpPr>
                <a:xfrm>
                  <a:off x="2984400" y="5083200"/>
                  <a:ext cx="1236600" cy="372960"/>
                  <a:chOff x="2984400" y="5083200"/>
                  <a:chExt cx="1236600" cy="372960"/>
                </a:xfrm>
              </p:grpSpPr>
              <p:sp>
                <p:nvSpPr>
                  <p:cNvPr id="123" name=""/>
                  <p:cNvSpPr/>
                  <p:nvPr/>
                </p:nvSpPr>
                <p:spPr>
                  <a:xfrm>
                    <a:off x="2984400" y="5083200"/>
                    <a:ext cx="1236600" cy="365040"/>
                  </a:xfrm>
                  <a:prstGeom prst="roundRect">
                    <a:avLst>
                      <a:gd name="adj" fmla="val 431"/>
                    </a:avLst>
                  </a:prstGeom>
                  <a:solidFill>
                    <a:srgbClr val="00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4" name=""/>
                  <p:cNvGrpSpPr/>
                  <p:nvPr/>
                </p:nvGrpSpPr>
                <p:grpSpPr>
                  <a:xfrm>
                    <a:off x="2984400" y="5083200"/>
                    <a:ext cx="1236600" cy="372960"/>
                    <a:chOff x="2984400" y="5083200"/>
                    <a:chExt cx="1236600" cy="372960"/>
                  </a:xfrm>
                </p:grpSpPr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2984400" y="5083200"/>
                      <a:ext cx="1236600" cy="372960"/>
                    </a:xfrm>
                    <a:prstGeom prst="roundRect">
                      <a:avLst>
                        <a:gd name="adj" fmla="val 426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2984760" y="5083200"/>
                      <a:ext cx="1234440" cy="369000"/>
                    </a:xfrm>
                    <a:prstGeom prst="roundRect">
                      <a:avLst>
                        <a:gd name="adj" fmla="val 426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HG Mincho Light J"/>
                        </a:rPr>
                        <a:t>Interpre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127" name=""/>
              <p:cNvSpPr/>
              <p:nvPr/>
            </p:nvSpPr>
            <p:spPr>
              <a:xfrm flipH="1">
                <a:off x="2619360" y="5373720"/>
                <a:ext cx="3700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8" name=""/>
          <p:cNvGrpSpPr/>
          <p:nvPr/>
        </p:nvGrpSpPr>
        <p:grpSpPr>
          <a:xfrm>
            <a:off x="250920" y="3357720"/>
            <a:ext cx="911160" cy="715680"/>
            <a:chOff x="250920" y="3357720"/>
            <a:chExt cx="911160" cy="715680"/>
          </a:xfrm>
        </p:grpSpPr>
        <p:sp>
          <p:nvSpPr>
            <p:cNvPr id="129" name=""/>
            <p:cNvSpPr/>
            <p:nvPr/>
          </p:nvSpPr>
          <p:spPr>
            <a:xfrm>
              <a:off x="250920" y="3357720"/>
              <a:ext cx="911160" cy="715680"/>
            </a:xfrm>
            <a:prstGeom prst="roundRect">
              <a:avLst>
                <a:gd name="adj" fmla="val 222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250920" y="3357720"/>
              <a:ext cx="911160" cy="715680"/>
              <a:chOff x="250920" y="3357720"/>
              <a:chExt cx="911160" cy="715680"/>
            </a:xfrm>
          </p:grpSpPr>
          <p:sp>
            <p:nvSpPr>
              <p:cNvPr id="131" name=""/>
              <p:cNvSpPr/>
              <p:nvPr/>
            </p:nvSpPr>
            <p:spPr>
              <a:xfrm>
                <a:off x="250920" y="3357720"/>
                <a:ext cx="911160" cy="715680"/>
              </a:xfrm>
              <a:prstGeom prst="roundRect">
                <a:avLst>
                  <a:gd name="adj" fmla="val 22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18960" y="3531240"/>
                <a:ext cx="775080" cy="368280"/>
              </a:xfrm>
              <a:prstGeom prst="roundRect">
                <a:avLst>
                  <a:gd name="adj" fmla="val 22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  <a:ea typeface="HG Mincho Light J"/>
                  </a:rPr>
                  <a:t>Clo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3" name=""/>
          <p:cNvGrpSpPr/>
          <p:nvPr/>
        </p:nvGrpSpPr>
        <p:grpSpPr>
          <a:xfrm>
            <a:off x="6258960" y="4492800"/>
            <a:ext cx="793440" cy="507960"/>
            <a:chOff x="6258960" y="4492800"/>
            <a:chExt cx="793440" cy="507960"/>
          </a:xfrm>
        </p:grpSpPr>
        <p:sp>
          <p:nvSpPr>
            <p:cNvPr id="134" name=""/>
            <p:cNvSpPr/>
            <p:nvPr/>
          </p:nvSpPr>
          <p:spPr>
            <a:xfrm flipH="1">
              <a:off x="6286320" y="4492800"/>
              <a:ext cx="755640" cy="16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6258960" y="4590000"/>
              <a:ext cx="793440" cy="410760"/>
              <a:chOff x="6258960" y="4590000"/>
              <a:chExt cx="793440" cy="410760"/>
            </a:xfrm>
          </p:grpSpPr>
          <p:sp>
            <p:nvSpPr>
              <p:cNvPr id="136" name=""/>
              <p:cNvSpPr/>
              <p:nvPr/>
            </p:nvSpPr>
            <p:spPr>
              <a:xfrm rot="20820000">
                <a:off x="6291360" y="4671720"/>
                <a:ext cx="728640" cy="247680"/>
              </a:xfrm>
              <a:prstGeom prst="roundRect">
                <a:avLst>
                  <a:gd name="adj" fmla="val 63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20820000">
                <a:off x="6276960" y="4671720"/>
                <a:ext cx="757440" cy="246960"/>
              </a:xfrm>
              <a:prstGeom prst="roundRect">
                <a:avLst>
                  <a:gd name="adj" fmla="val 63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  <a:ea typeface="HG Mincho Light J"/>
                  </a:rPr>
                  <a:t>4K-Blöck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8" name=""/>
          <p:cNvGrpSpPr/>
          <p:nvPr/>
        </p:nvGrpSpPr>
        <p:grpSpPr>
          <a:xfrm>
            <a:off x="600120" y="1197000"/>
            <a:ext cx="2168640" cy="2158920"/>
            <a:chOff x="600120" y="1197000"/>
            <a:chExt cx="2168640" cy="2158920"/>
          </a:xfrm>
        </p:grpSpPr>
        <p:sp>
          <p:nvSpPr>
            <p:cNvPr id="139" name=""/>
            <p:cNvSpPr/>
            <p:nvPr/>
          </p:nvSpPr>
          <p:spPr>
            <a:xfrm>
              <a:off x="2265480" y="1916280"/>
              <a:ext cx="503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0120" y="1987560"/>
              <a:ext cx="371520" cy="1368360"/>
            </a:xfrm>
            <a:custGeom>
              <a:avLst/>
              <a:gdLst/>
              <a:ahLst/>
              <a:rect l="l" t="t" r="r" b="b"/>
              <a:pathLst>
                <a:path w="1031" h="3799">
                  <a:moveTo>
                    <a:pt x="29" y="3798"/>
                  </a:moveTo>
                  <a:lnTo>
                    <a:pt x="0" y="4"/>
                  </a:lnTo>
                  <a:lnTo>
                    <a:pt x="103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971640" y="1197000"/>
              <a:ext cx="1438200" cy="1508040"/>
              <a:chOff x="971640" y="1197000"/>
              <a:chExt cx="1438200" cy="1508040"/>
            </a:xfrm>
          </p:grpSpPr>
          <p:sp>
            <p:nvSpPr>
              <p:cNvPr id="142" name=""/>
              <p:cNvSpPr/>
              <p:nvPr/>
            </p:nvSpPr>
            <p:spPr>
              <a:xfrm>
                <a:off x="971640" y="1197000"/>
                <a:ext cx="1438200" cy="1508040"/>
              </a:xfrm>
              <a:custGeom>
                <a:avLst/>
                <a:gdLst>
                  <a:gd name="textAreaLeft" fmla="*/ 360 w 1438200"/>
                  <a:gd name="textAreaRight" fmla="*/ 1437840 w 1438200"/>
                  <a:gd name="textAreaTop" fmla="*/ 360 h 1508040"/>
                  <a:gd name="textAreaBottom" fmla="*/ 1507680 h 1508040"/>
                </a:gdLst>
                <a:ahLst/>
                <a:rect l="textAreaLeft" t="textAreaTop" r="textAreaRight" b="textAreaBottom"/>
                <a:pathLst>
                  <a:path w="21600" h="22649">
                    <a:moveTo>
                      <a:pt x="23" y="0"/>
                    </a:moveTo>
                    <a:arcTo wR="23" hR="23" stAng="16200000" swAng="-5400000"/>
                    <a:lnTo>
                      <a:pt x="0" y="22626"/>
                    </a:lnTo>
                    <a:arcTo wR="23" hR="23" stAng="10800000" swAng="-5400000"/>
                    <a:lnTo>
                      <a:pt x="21577" y="22649"/>
                    </a:lnTo>
                    <a:arcTo wR="23" hR="23" stAng="5400000" swAng="-5400000"/>
                    <a:lnTo>
                      <a:pt x="21600" y="23"/>
                    </a:lnTo>
                    <a:arcTo wR="23" hR="23" stAng="0" swAng="-5400000"/>
                    <a:close/>
                  </a:path>
                </a:pathLst>
              </a:cu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85840" y="1268280"/>
                <a:ext cx="1082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  <a:ea typeface="HG Mincho Light J"/>
                  </a:rPr>
                  <a:t>Collect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4" name=""/>
              <p:cNvGrpSpPr/>
              <p:nvPr/>
            </p:nvGrpSpPr>
            <p:grpSpPr>
              <a:xfrm>
                <a:off x="1116000" y="1698120"/>
                <a:ext cx="498600" cy="503640"/>
                <a:chOff x="1116000" y="1698120"/>
                <a:chExt cx="498600" cy="503640"/>
              </a:xfrm>
            </p:grpSpPr>
            <p:grpSp>
              <p:nvGrpSpPr>
                <p:cNvPr id="145" name=""/>
                <p:cNvGrpSpPr/>
                <p:nvPr/>
              </p:nvGrpSpPr>
              <p:grpSpPr>
                <a:xfrm>
                  <a:off x="1224000" y="1698120"/>
                  <a:ext cx="284040" cy="287640"/>
                  <a:chOff x="1224000" y="1698120"/>
                  <a:chExt cx="284040" cy="28764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 flipV="1">
                    <a:off x="1224000" y="1698120"/>
                    <a:ext cx="142920" cy="287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1366920" y="1704960"/>
                    <a:ext cx="141120" cy="277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1116000" y="1984320"/>
                  <a:ext cx="211320" cy="217440"/>
                  <a:chOff x="1116000" y="1984320"/>
                  <a:chExt cx="211320" cy="21744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 flipV="1">
                    <a:off x="1116000" y="1984320"/>
                    <a:ext cx="108000" cy="217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1220760" y="1989000"/>
                    <a:ext cx="106560" cy="20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1" name=""/>
                <p:cNvGrpSpPr/>
                <p:nvPr/>
              </p:nvGrpSpPr>
              <p:grpSpPr>
                <a:xfrm>
                  <a:off x="1403280" y="1974960"/>
                  <a:ext cx="211320" cy="217440"/>
                  <a:chOff x="1403280" y="1974960"/>
                  <a:chExt cx="211320" cy="217440"/>
                </a:xfrm>
              </p:grpSpPr>
              <p:sp>
                <p:nvSpPr>
                  <p:cNvPr id="152" name=""/>
                  <p:cNvSpPr/>
                  <p:nvPr/>
                </p:nvSpPr>
                <p:spPr>
                  <a:xfrm flipV="1">
                    <a:off x="1403280" y="1974960"/>
                    <a:ext cx="104760" cy="217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1508040" y="1979640"/>
                    <a:ext cx="106560" cy="20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54" name=""/>
          <p:cNvGrpSpPr/>
          <p:nvPr/>
        </p:nvGrpSpPr>
        <p:grpSpPr>
          <a:xfrm>
            <a:off x="1763640" y="1989000"/>
            <a:ext cx="430200" cy="573120"/>
            <a:chOff x="1763640" y="1989000"/>
            <a:chExt cx="430200" cy="573120"/>
          </a:xfrm>
        </p:grpSpPr>
        <p:sp>
          <p:nvSpPr>
            <p:cNvPr id="155" name=""/>
            <p:cNvSpPr/>
            <p:nvPr/>
          </p:nvSpPr>
          <p:spPr>
            <a:xfrm>
              <a:off x="1763640" y="1989000"/>
              <a:ext cx="1800" cy="5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979640" y="1989000"/>
              <a:ext cx="1440" cy="5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192400" y="1989000"/>
              <a:ext cx="1440" cy="5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63640" y="1989000"/>
              <a:ext cx="430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63640" y="2133720"/>
              <a:ext cx="430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763640" y="2274840"/>
              <a:ext cx="430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763640" y="2560680"/>
              <a:ext cx="430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763640" y="2416320"/>
              <a:ext cx="430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185040" y="4797360"/>
            <a:ext cx="1289520" cy="1220760"/>
            <a:chOff x="185040" y="4797360"/>
            <a:chExt cx="1289520" cy="1220760"/>
          </a:xfrm>
        </p:grpSpPr>
        <p:grpSp>
          <p:nvGrpSpPr>
            <p:cNvPr id="164" name=""/>
            <p:cNvGrpSpPr/>
            <p:nvPr/>
          </p:nvGrpSpPr>
          <p:grpSpPr>
            <a:xfrm>
              <a:off x="185040" y="4797360"/>
              <a:ext cx="1131840" cy="1220760"/>
              <a:chOff x="185040" y="4797360"/>
              <a:chExt cx="1131840" cy="1220760"/>
            </a:xfrm>
          </p:grpSpPr>
          <p:sp>
            <p:nvSpPr>
              <p:cNvPr id="165" name=""/>
              <p:cNvSpPr/>
              <p:nvPr/>
            </p:nvSpPr>
            <p:spPr>
              <a:xfrm>
                <a:off x="250920" y="4797360"/>
                <a:ext cx="1001520" cy="1220760"/>
              </a:xfrm>
              <a:custGeom>
                <a:avLst/>
                <a:gdLst>
                  <a:gd name="textAreaLeft" fmla="*/ 360 w 1001520"/>
                  <a:gd name="textAreaRight" fmla="*/ 1001160 w 1001520"/>
                  <a:gd name="textAreaTop" fmla="*/ 360 h 1220760"/>
                  <a:gd name="textAreaBottom" fmla="*/ 1220400 h 1220760"/>
                </a:gdLst>
                <a:ahLst/>
                <a:rect l="textAreaLeft" t="textAreaTop" r="textAreaRight" b="textAreaBottom"/>
                <a:pathLst>
                  <a:path w="21600" h="26327">
                    <a:moveTo>
                      <a:pt x="34" y="0"/>
                    </a:moveTo>
                    <a:arcTo wR="34" hR="34" stAng="16200000" swAng="-5400000"/>
                    <a:lnTo>
                      <a:pt x="0" y="26293"/>
                    </a:lnTo>
                    <a:arcTo wR="34" hR="34" stAng="10800000" swAng="-5400000"/>
                    <a:lnTo>
                      <a:pt x="21566" y="26327"/>
                    </a:lnTo>
                    <a:arcTo wR="34" hR="34" stAng="5400000" swAng="-5400000"/>
                    <a:lnTo>
                      <a:pt x="21600" y="34"/>
                    </a:lnTo>
                    <a:arcTo wR="34" hR="34" stAng="0" swAng="-5400000"/>
                    <a:close/>
                  </a:path>
                </a:pathLst>
              </a:cu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6" name=""/>
              <p:cNvGrpSpPr/>
              <p:nvPr/>
            </p:nvGrpSpPr>
            <p:grpSpPr>
              <a:xfrm>
                <a:off x="185040" y="4797360"/>
                <a:ext cx="1131840" cy="1220760"/>
                <a:chOff x="185040" y="4797360"/>
                <a:chExt cx="1131840" cy="122076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250920" y="4797360"/>
                  <a:ext cx="1001520" cy="1220760"/>
                </a:xfrm>
                <a:custGeom>
                  <a:avLst/>
                  <a:gdLst>
                    <a:gd name="textAreaLeft" fmla="*/ 360 w 1001520"/>
                    <a:gd name="textAreaRight" fmla="*/ 1001160 w 1001520"/>
                    <a:gd name="textAreaTop" fmla="*/ 360 h 1220760"/>
                    <a:gd name="textAreaBottom" fmla="*/ 1220400 h 1220760"/>
                  </a:gdLst>
                  <a:ahLst/>
                  <a:rect l="textAreaLeft" t="textAreaTop" r="textAreaRight" b="textAreaBottom"/>
                  <a:pathLst>
                    <a:path w="21600" h="26327">
                      <a:moveTo>
                        <a:pt x="34" y="0"/>
                      </a:moveTo>
                      <a:arcTo wR="34" hR="34" stAng="16200000" swAng="-5400000"/>
                      <a:lnTo>
                        <a:pt x="0" y="26293"/>
                      </a:lnTo>
                      <a:arcTo wR="34" hR="34" stAng="10800000" swAng="-5400000"/>
                      <a:lnTo>
                        <a:pt x="21566" y="26327"/>
                      </a:lnTo>
                      <a:arcTo wR="34" hR="34" stAng="5400000" swAng="-5400000"/>
                      <a:lnTo>
                        <a:pt x="21600" y="34"/>
                      </a:lnTo>
                      <a:arcTo wR="34" hR="34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85040" y="5223600"/>
                  <a:ext cx="1131840" cy="368280"/>
                </a:xfrm>
                <a:prstGeom prst="roundRect">
                  <a:avLst>
                    <a:gd name="adj" fmla="val 157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  <a:ea typeface="HG Mincho Light J"/>
                    </a:rPr>
                    <a:t>Semantik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9" name=""/>
            <p:cNvSpPr/>
            <p:nvPr/>
          </p:nvSpPr>
          <p:spPr>
            <a:xfrm flipH="1">
              <a:off x="1247400" y="5373720"/>
              <a:ext cx="227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 flipH="1" flipV="1">
            <a:off x="1182240" y="4145040"/>
            <a:ext cx="298440" cy="944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720800" y="1486080"/>
            <a:ext cx="5702400" cy="3886200"/>
          </a:xfrm>
          <a:prstGeom prst="rect">
            <a:avLst/>
          </a:prstGeom>
          <a:ln w="0">
            <a:noFill/>
          </a:ln>
        </p:spPr>
      </p:pic>
      <p:grpSp>
        <p:nvGrpSpPr>
          <p:cNvPr id="172" name=""/>
          <p:cNvGrpSpPr/>
          <p:nvPr/>
        </p:nvGrpSpPr>
        <p:grpSpPr>
          <a:xfrm>
            <a:off x="168840" y="3551400"/>
            <a:ext cx="820080" cy="660240"/>
            <a:chOff x="168840" y="3551400"/>
            <a:chExt cx="820080" cy="660240"/>
          </a:xfrm>
        </p:grpSpPr>
        <p:pic>
          <p:nvPicPr>
            <p:cNvPr id="173" name="" descr=""/>
            <p:cNvPicPr/>
            <p:nvPr/>
          </p:nvPicPr>
          <p:blipFill>
            <a:blip r:embed="rId2"/>
            <a:stretch/>
          </p:blipFill>
          <p:spPr>
            <a:xfrm>
              <a:off x="250920" y="3551400"/>
              <a:ext cx="738000" cy="596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4" name=""/>
            <p:cNvGrpSpPr/>
            <p:nvPr/>
          </p:nvGrpSpPr>
          <p:grpSpPr>
            <a:xfrm>
              <a:off x="168840" y="3654360"/>
              <a:ext cx="737640" cy="557280"/>
              <a:chOff x="168840" y="3654360"/>
              <a:chExt cx="737640" cy="557280"/>
            </a:xfrm>
          </p:grpSpPr>
          <p:sp>
            <p:nvSpPr>
              <p:cNvPr id="175" name=""/>
              <p:cNvSpPr/>
              <p:nvPr/>
            </p:nvSpPr>
            <p:spPr>
              <a:xfrm>
                <a:off x="219240" y="3654360"/>
                <a:ext cx="636480" cy="55728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68840" y="3656520"/>
                <a:ext cx="737640" cy="55152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  <a:ea typeface="HG Mincho Light J"/>
                  </a:rPr>
                  <a:t>RACE_</a:t>
                </a:r>
                <a:br>
                  <a:rPr sz="1000"/>
                </a:b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  <a:ea typeface="HG Mincho Light J"/>
                  </a:rPr>
                  <a:t>Message-</a:t>
                </a:r>
                <a:br>
                  <a:rPr sz="1000"/>
                </a:b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  <a:ea typeface="HG Mincho Light J"/>
                  </a:rPr>
                  <a:t>Bloc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7" name=""/>
          <p:cNvGrpSpPr/>
          <p:nvPr/>
        </p:nvGrpSpPr>
        <p:grpSpPr>
          <a:xfrm>
            <a:off x="168840" y="3048120"/>
            <a:ext cx="820080" cy="658800"/>
            <a:chOff x="168840" y="3048120"/>
            <a:chExt cx="820080" cy="658800"/>
          </a:xfrm>
        </p:grpSpPr>
        <p:pic>
          <p:nvPicPr>
            <p:cNvPr id="178" name="" descr=""/>
            <p:cNvPicPr/>
            <p:nvPr/>
          </p:nvPicPr>
          <p:blipFill>
            <a:blip r:embed="rId3"/>
            <a:stretch/>
          </p:blipFill>
          <p:spPr>
            <a:xfrm>
              <a:off x="250920" y="3048120"/>
              <a:ext cx="738000" cy="596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9" name=""/>
            <p:cNvGrpSpPr/>
            <p:nvPr/>
          </p:nvGrpSpPr>
          <p:grpSpPr>
            <a:xfrm>
              <a:off x="168840" y="3149640"/>
              <a:ext cx="737640" cy="557280"/>
              <a:chOff x="168840" y="3149640"/>
              <a:chExt cx="737640" cy="557280"/>
            </a:xfrm>
          </p:grpSpPr>
          <p:sp>
            <p:nvSpPr>
              <p:cNvPr id="180" name=""/>
              <p:cNvSpPr/>
              <p:nvPr/>
            </p:nvSpPr>
            <p:spPr>
              <a:xfrm>
                <a:off x="219240" y="3149640"/>
                <a:ext cx="636480" cy="55728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68840" y="3152520"/>
                <a:ext cx="737640" cy="55152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  <a:ea typeface="HG Mincho Light J"/>
                  </a:rPr>
                  <a:t>RACE_</a:t>
                </a:r>
                <a:br>
                  <a:rPr sz="1000"/>
                </a:b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  <a:ea typeface="HG Mincho Light J"/>
                  </a:rPr>
                  <a:t>Message-</a:t>
                </a:r>
                <a:br>
                  <a:rPr sz="1000"/>
                </a:b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  <a:ea typeface="HG Mincho Light J"/>
                  </a:rPr>
                  <a:t>Queu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2" name=""/>
          <p:cNvGrpSpPr/>
          <p:nvPr/>
        </p:nvGrpSpPr>
        <p:grpSpPr>
          <a:xfrm>
            <a:off x="3265920" y="4125960"/>
            <a:ext cx="820440" cy="658800"/>
            <a:chOff x="3265920" y="4125960"/>
            <a:chExt cx="820440" cy="658800"/>
          </a:xfrm>
        </p:grpSpPr>
        <p:pic>
          <p:nvPicPr>
            <p:cNvPr id="183" name="" descr=""/>
            <p:cNvPicPr/>
            <p:nvPr/>
          </p:nvPicPr>
          <p:blipFill>
            <a:blip r:embed="rId4"/>
            <a:stretch/>
          </p:blipFill>
          <p:spPr>
            <a:xfrm>
              <a:off x="3348000" y="4125960"/>
              <a:ext cx="738360" cy="595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4" name=""/>
            <p:cNvGrpSpPr/>
            <p:nvPr/>
          </p:nvGrpSpPr>
          <p:grpSpPr>
            <a:xfrm>
              <a:off x="3265920" y="4229280"/>
              <a:ext cx="737640" cy="555480"/>
              <a:chOff x="3265920" y="4229280"/>
              <a:chExt cx="737640" cy="555480"/>
            </a:xfrm>
          </p:grpSpPr>
          <p:sp>
            <p:nvSpPr>
              <p:cNvPr id="185" name=""/>
              <p:cNvSpPr/>
              <p:nvPr/>
            </p:nvSpPr>
            <p:spPr>
              <a:xfrm>
                <a:off x="3316320" y="4229280"/>
                <a:ext cx="638280" cy="55548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265920" y="4231080"/>
                <a:ext cx="737640" cy="55152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  <a:ea typeface="HG Mincho Light J"/>
                  </a:rPr>
                  <a:t>ACE_</a:t>
                </a:r>
                <a:br>
                  <a:rPr sz="1000"/>
                </a:b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  <a:ea typeface="HG Mincho Light J"/>
                  </a:rPr>
                  <a:t>Message-</a:t>
                </a:r>
                <a:br>
                  <a:rPr sz="1000"/>
                </a:b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  <a:ea typeface="HG Mincho Light J"/>
                  </a:rPr>
                  <a:t>Bloc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7" name=""/>
          <p:cNvGrpSpPr/>
          <p:nvPr/>
        </p:nvGrpSpPr>
        <p:grpSpPr>
          <a:xfrm>
            <a:off x="3265920" y="3622680"/>
            <a:ext cx="820440" cy="658800"/>
            <a:chOff x="3265920" y="3622680"/>
            <a:chExt cx="820440" cy="658800"/>
          </a:xfrm>
        </p:grpSpPr>
        <p:pic>
          <p:nvPicPr>
            <p:cNvPr id="188" name="" descr=""/>
            <p:cNvPicPr/>
            <p:nvPr/>
          </p:nvPicPr>
          <p:blipFill>
            <a:blip r:embed="rId5"/>
            <a:stretch/>
          </p:blipFill>
          <p:spPr>
            <a:xfrm>
              <a:off x="3348000" y="3622680"/>
              <a:ext cx="738360" cy="595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9" name=""/>
            <p:cNvGrpSpPr/>
            <p:nvPr/>
          </p:nvGrpSpPr>
          <p:grpSpPr>
            <a:xfrm>
              <a:off x="3265920" y="3726000"/>
              <a:ext cx="737640" cy="555480"/>
              <a:chOff x="3265920" y="3726000"/>
              <a:chExt cx="737640" cy="555480"/>
            </a:xfrm>
          </p:grpSpPr>
          <p:sp>
            <p:nvSpPr>
              <p:cNvPr id="190" name=""/>
              <p:cNvSpPr/>
              <p:nvPr/>
            </p:nvSpPr>
            <p:spPr>
              <a:xfrm>
                <a:off x="3316320" y="3726000"/>
                <a:ext cx="638280" cy="55548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265920" y="3727800"/>
                <a:ext cx="737640" cy="55152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  <a:ea typeface="HG Mincho Light J"/>
                  </a:rPr>
                  <a:t>ACE_</a:t>
                </a:r>
                <a:br>
                  <a:rPr sz="1000"/>
                </a:b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  <a:ea typeface="HG Mincho Light J"/>
                  </a:rPr>
                  <a:t>Message-</a:t>
                </a:r>
                <a:br>
                  <a:rPr sz="1000"/>
                </a:b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  <a:ea typeface="HG Mincho Light J"/>
                  </a:rPr>
                  <a:t>Queu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2" name=""/>
          <p:cNvGrpSpPr/>
          <p:nvPr/>
        </p:nvGrpSpPr>
        <p:grpSpPr>
          <a:xfrm>
            <a:off x="4319640" y="3708360"/>
            <a:ext cx="5686200" cy="1290600"/>
            <a:chOff x="4319640" y="3708360"/>
            <a:chExt cx="5686200" cy="1290600"/>
          </a:xfrm>
        </p:grpSpPr>
        <p:sp>
          <p:nvSpPr>
            <p:cNvPr id="193" name=""/>
            <p:cNvSpPr/>
            <p:nvPr/>
          </p:nvSpPr>
          <p:spPr>
            <a:xfrm>
              <a:off x="4319640" y="3708360"/>
              <a:ext cx="5686200" cy="1290600"/>
            </a:xfrm>
            <a:prstGeom prst="roundRect">
              <a:avLst>
                <a:gd name="adj" fmla="val 120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319640" y="3708360"/>
              <a:ext cx="5686200" cy="119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indent="263520">
                <a:lnSpc>
                  <a:spcPct val="100000"/>
                </a:lnSpc>
                <a:spcBef>
                  <a:spcPts val="111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HG Mincho Light J"/>
                </a:rPr>
                <a:t>Klasse Messageblock nicht ableitb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indent="263520">
                <a:lnSpc>
                  <a:spcPct val="100000"/>
                </a:lnSpc>
                <a:spcBef>
                  <a:spcPts val="111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HG Mincho Light J"/>
                </a:rPr>
                <a:t>Queue-Füllstandskriterium nicht kontrollierb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indent="263520">
                <a:lnSpc>
                  <a:spcPct val="100000"/>
                </a:lnSpc>
                <a:spcBef>
                  <a:spcPts val="111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HG Mincho Light J"/>
                </a:rPr>
                <a:t>Queue-Kapazität nicht steuerb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211320" y="2541600"/>
            <a:ext cx="779400" cy="658800"/>
            <a:chOff x="211320" y="2541600"/>
            <a:chExt cx="779400" cy="658800"/>
          </a:xfrm>
        </p:grpSpPr>
        <p:pic>
          <p:nvPicPr>
            <p:cNvPr id="196" name="" descr=""/>
            <p:cNvPicPr/>
            <p:nvPr/>
          </p:nvPicPr>
          <p:blipFill>
            <a:blip r:embed="rId6"/>
            <a:stretch/>
          </p:blipFill>
          <p:spPr>
            <a:xfrm>
              <a:off x="250920" y="2541600"/>
              <a:ext cx="739800" cy="595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7" name=""/>
            <p:cNvGrpSpPr/>
            <p:nvPr/>
          </p:nvGrpSpPr>
          <p:grpSpPr>
            <a:xfrm>
              <a:off x="211320" y="2644920"/>
              <a:ext cx="652320" cy="555480"/>
              <a:chOff x="211320" y="2644920"/>
              <a:chExt cx="652320" cy="555480"/>
            </a:xfrm>
          </p:grpSpPr>
          <p:sp>
            <p:nvSpPr>
              <p:cNvPr id="198" name=""/>
              <p:cNvSpPr/>
              <p:nvPr/>
            </p:nvSpPr>
            <p:spPr>
              <a:xfrm>
                <a:off x="250920" y="2644920"/>
                <a:ext cx="573120" cy="55548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11320" y="2646720"/>
                <a:ext cx="652320" cy="55152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  <a:ea typeface="HG Mincho Light J"/>
                  </a:rPr>
                  <a:t>RACE_</a:t>
                </a:r>
                <a:br>
                  <a:rPr sz="1000"/>
                </a:b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  <a:ea typeface="HG Mincho Light J"/>
                  </a:rPr>
                  <a:t>Queue_</a:t>
                </a:r>
                <a:br>
                  <a:rPr sz="1000"/>
                </a:b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  <a:ea typeface="HG Mincho Light J"/>
                  </a:rPr>
                  <a:t>Strateg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0" name=""/>
          <p:cNvSpPr/>
          <p:nvPr/>
        </p:nvSpPr>
        <p:spPr>
          <a:xfrm>
            <a:off x="2700000" y="331920"/>
            <a:ext cx="40057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RACE als ACE-Verbesseru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7320" cy="13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gewandte Mu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mantikmuster als Spezialfall von Vistor-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tegie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ive Objekt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read specific singele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5880" cy="13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ersistenz/Transient-Mu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588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s persistente Speicherlayout wird auf der Platte/im geteilten Segment/Netzwerkgerät geschrieben und geles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 gibt transiente Zugriffsstrukturen, die diese Erzeugen und Implementier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